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12.jpeg" ContentType="image/jpeg"/>
  <Override PartName="/ppt/media/image7.png" ContentType="image/png"/>
  <Override PartName="/ppt/media/image8.wmf" ContentType="image/x-wmf"/>
  <Override PartName="/ppt/media/image9.png" ContentType="image/png"/>
  <Override PartName="/ppt/media/image10.jpeg" ContentType="image/jpeg"/>
  <Override PartName="/ppt/media/image11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imalishe Af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46864B-71DA-4B10-875F-44324C5EB91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imalishe Af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842AE-3A60-4FD9-9A6A-E39679E9834A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Header Placeholder 3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uimalishe Afy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Slide Number Placeholder 4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F1EAF-6C9C-477A-893A-DD18C4170E8D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BD821-28B0-4C09-9B6A-A75522ED38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179280" y="4080600"/>
            <a:ext cx="87854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F367F-0A41-46E9-82B3-6D994BF80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17928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8144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AED4-B3EC-4DA0-ABFF-EE40BF390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149640" y="184428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120000" y="184428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179280" y="408060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149640" y="408060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120000" y="408060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C62C-EA59-4AD9-BCF2-AD1F972935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35ACD-B006-4285-B188-B78402DC3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279D3-4E51-434F-8B84-FEBE3ABA26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79AFA-C615-43F3-ADF0-259BA5092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0400-BB43-4299-B5E2-55D3F6D047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5E59C3-FDF2-4649-9B42-D6C9C588D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187280" y="274680"/>
            <a:ext cx="74995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4344F-B05D-4936-A4C2-B6403C4AE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7928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6F2EC-FEF5-4BD4-A882-07AC65E30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B522F-8FD3-4FFA-B02D-FF20F188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68144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B02B7-D224-4619-8050-4B30BE14B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79280" y="4080600"/>
            <a:ext cx="87854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388B7-1D35-46A6-8017-17586752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79280" y="4080600"/>
            <a:ext cx="87854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3E37C-CD68-4C3F-B639-E977AD9D5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7928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68144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17037-720F-456B-9816-9EEDBB633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149640" y="184428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20000" y="184428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79280" y="408060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149640" y="408060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20000" y="408060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33BCC-266C-492E-BDEB-971723A3E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1B847C-9A13-4DB9-85DB-A5A7AE806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79280" y="184428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EA99A8-F3EB-470B-B017-86C0793A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6E91D-7269-4E52-83E2-7A77FF84B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BEE9489-361B-4069-BBA4-525E18DCD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2350ED-17B7-4642-B110-4A5D3B282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419FD-CE9E-49B9-A855-CCCB3446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1187280" y="274680"/>
            <a:ext cx="74995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62B8BC-14EE-43A8-A553-FA295FB44D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17928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12E647-B122-472F-8AB0-A5163C0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144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2B2D4A-8895-425A-8916-F06B28D0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79280" y="4080600"/>
            <a:ext cx="87854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BC3CEF-E182-4F74-8FF3-3AF34456B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87854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179280" y="4080600"/>
            <a:ext cx="87854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09D15C-1F70-437B-8EA1-FAE31D083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17928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144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3DFE1-DA1A-47D6-8DDC-4C2FCB085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49640" y="184428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20000" y="184428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179280" y="408060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49640" y="408060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20000" y="4080600"/>
            <a:ext cx="282852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CCA8B-25FF-491C-8099-9440521DDE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CD60-1AD0-41E9-B75A-C7B0086271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2CD55-2F4C-4669-A7C2-CBF2EEF4F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187280" y="274680"/>
            <a:ext cx="7499520" cy="460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47B7E-4FE8-45D2-8703-37B2BF85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7928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CBFB-D9C9-4FD1-B759-F453676BE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1440" y="408060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53895-9F40-4E88-9700-0A129DC5F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7928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81440" y="1844280"/>
            <a:ext cx="42872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79280" y="4080600"/>
            <a:ext cx="8785440" cy="20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783E-F079-453E-B165-0B541CCD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3.xml"/><Relationship Id="rId9" Type="http://schemas.openxmlformats.org/officeDocument/2006/relationships/slideLayout" Target="../slideLayouts/slideLayout14.xml"/><Relationship Id="rId10" Type="http://schemas.openxmlformats.org/officeDocument/2006/relationships/slideLayout" Target="../slideLayouts/slideLayout15.xml"/><Relationship Id="rId11" Type="http://schemas.openxmlformats.org/officeDocument/2006/relationships/slideLayout" Target="../slideLayouts/slideLayout16.xml"/><Relationship Id="rId12" Type="http://schemas.openxmlformats.org/officeDocument/2006/relationships/slideLayout" Target="../slideLayouts/slideLayout17.xml"/><Relationship Id="rId13" Type="http://schemas.openxmlformats.org/officeDocument/2006/relationships/slideLayout" Target="../slideLayouts/slideLayout18.xml"/><Relationship Id="rId14" Type="http://schemas.openxmlformats.org/officeDocument/2006/relationships/slideLayout" Target="../slideLayouts/slideLayout19.xml"/><Relationship Id="rId15" Type="http://schemas.openxmlformats.org/officeDocument/2006/relationships/slideLayout" Target="../slideLayouts/slideLayout20.xml"/><Relationship Id="rId16" Type="http://schemas.openxmlformats.org/officeDocument/2006/relationships/slideLayout" Target="../slideLayouts/slideLayout21.xml"/><Relationship Id="rId17" Type="http://schemas.openxmlformats.org/officeDocument/2006/relationships/slideLayout" Target="../slideLayouts/slideLayout22.xml"/><Relationship Id="rId18" Type="http://schemas.openxmlformats.org/officeDocument/2006/relationships/slideLayout" Target="../slideLayouts/slideLayout23.xml"/><Relationship Id="rId19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79280" y="184428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30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C4ADC-BA49-44BE-8D78-5CEAFA6D3DE3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87280" y="6237000"/>
            <a:ext cx="525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F Maste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1FDD-59B2-4B35-A938-163BA9A1A4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1324080"/>
          </a:xfrm>
          <a:prstGeom prst="rect">
            <a:avLst/>
          </a:prstGeom>
          <a:ln w="0">
            <a:noFill/>
          </a:ln>
        </p:spPr>
      </p:pic>
      <p:sp>
        <p:nvSpPr>
          <p:cNvPr id="6" name="Rectangle 8"/>
          <p:cNvSpPr/>
          <p:nvPr/>
        </p:nvSpPr>
        <p:spPr>
          <a:xfrm>
            <a:off x="1440" y="1441440"/>
            <a:ext cx="9144000" cy="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1542960"/>
            <a:ext cx="9144000" cy="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11"/>
          <p:cNvSpPr/>
          <p:nvPr/>
        </p:nvSpPr>
        <p:spPr>
          <a:xfrm>
            <a:off x="0" y="1585800"/>
            <a:ext cx="9144000" cy="7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12"/>
          <p:cNvSpPr/>
          <p:nvPr/>
        </p:nvSpPr>
        <p:spPr>
          <a:xfrm>
            <a:off x="0" y="1370160"/>
            <a:ext cx="9144000" cy="71280"/>
          </a:xfrm>
          <a:prstGeom prst="rect">
            <a:avLst/>
          </a:prstGeom>
          <a:solidFill>
            <a:srgbClr val="3fb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1359000" cy="1324080"/>
          </a:xfrm>
          <a:prstGeom prst="rect">
            <a:avLst/>
          </a:prstGeom>
          <a:ln w="0">
            <a:noFill/>
          </a:ln>
        </p:spPr>
      </p:pic>
      <p:sp>
        <p:nvSpPr>
          <p:cNvPr id="12" name="Rectangle 14"/>
          <p:cNvSpPr/>
          <p:nvPr/>
        </p:nvSpPr>
        <p:spPr>
          <a:xfrm>
            <a:off x="1440" y="1441440"/>
            <a:ext cx="9144000" cy="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Rectangle 16"/>
          <p:cNvSpPr/>
          <p:nvPr/>
        </p:nvSpPr>
        <p:spPr>
          <a:xfrm>
            <a:off x="0" y="1542960"/>
            <a:ext cx="9144000" cy="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Rectangle 17"/>
          <p:cNvSpPr/>
          <p:nvPr/>
        </p:nvSpPr>
        <p:spPr>
          <a:xfrm>
            <a:off x="0" y="1585800"/>
            <a:ext cx="9144000" cy="7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Rectangle 18"/>
          <p:cNvSpPr/>
          <p:nvPr/>
        </p:nvSpPr>
        <p:spPr>
          <a:xfrm>
            <a:off x="0" y="1370160"/>
            <a:ext cx="9144000" cy="71280"/>
          </a:xfrm>
          <a:prstGeom prst="rect">
            <a:avLst/>
          </a:prstGeom>
          <a:solidFill>
            <a:srgbClr val="3fb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132408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8"/>
          <p:cNvSpPr/>
          <p:nvPr/>
        </p:nvSpPr>
        <p:spPr>
          <a:xfrm>
            <a:off x="1440" y="1441440"/>
            <a:ext cx="9144000" cy="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0"/>
          <p:cNvSpPr/>
          <p:nvPr/>
        </p:nvSpPr>
        <p:spPr>
          <a:xfrm>
            <a:off x="0" y="1542960"/>
            <a:ext cx="9144000" cy="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1"/>
          <p:cNvSpPr/>
          <p:nvPr/>
        </p:nvSpPr>
        <p:spPr>
          <a:xfrm>
            <a:off x="0" y="1585800"/>
            <a:ext cx="9144000" cy="7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2"/>
          <p:cNvSpPr/>
          <p:nvPr/>
        </p:nvSpPr>
        <p:spPr>
          <a:xfrm>
            <a:off x="0" y="1370160"/>
            <a:ext cx="9144000" cy="71280"/>
          </a:xfrm>
          <a:prstGeom prst="rect">
            <a:avLst/>
          </a:prstGeom>
          <a:solidFill>
            <a:srgbClr val="3fb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1359000" cy="1324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14"/>
          <p:cNvSpPr/>
          <p:nvPr/>
        </p:nvSpPr>
        <p:spPr>
          <a:xfrm>
            <a:off x="1440" y="1441440"/>
            <a:ext cx="9144000" cy="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5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0" y="1542960"/>
            <a:ext cx="9144000" cy="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7"/>
          <p:cNvSpPr/>
          <p:nvPr/>
        </p:nvSpPr>
        <p:spPr>
          <a:xfrm>
            <a:off x="0" y="1585800"/>
            <a:ext cx="9144000" cy="7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8"/>
          <p:cNvSpPr/>
          <p:nvPr/>
        </p:nvSpPr>
        <p:spPr>
          <a:xfrm>
            <a:off x="0" y="1370160"/>
            <a:ext cx="9144000" cy="71280"/>
          </a:xfrm>
          <a:prstGeom prst="rect">
            <a:avLst/>
          </a:prstGeom>
          <a:solidFill>
            <a:srgbClr val="3fb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3" descr="2012-04 Logo hPSS, nwe font for HPSS"/>
          <p:cNvPicPr/>
          <p:nvPr/>
        </p:nvPicPr>
        <p:blipFill>
          <a:blip r:embed="rId4"/>
          <a:stretch/>
        </p:blipFill>
        <p:spPr>
          <a:xfrm>
            <a:off x="3084480" y="5221440"/>
            <a:ext cx="1233360" cy="8539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9" descr="Screen Clipping"/>
          <p:cNvPicPr/>
          <p:nvPr/>
        </p:nvPicPr>
        <p:blipFill>
          <a:blip r:embed="rId5"/>
          <a:stretch/>
        </p:blipFill>
        <p:spPr>
          <a:xfrm>
            <a:off x="5477040" y="5229360"/>
            <a:ext cx="1152360" cy="8190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0" descr="Screen Clipping"/>
          <p:cNvPicPr/>
          <p:nvPr/>
        </p:nvPicPr>
        <p:blipFill>
          <a:blip r:embed="rId6"/>
          <a:stretch/>
        </p:blipFill>
        <p:spPr>
          <a:xfrm>
            <a:off x="581040" y="5273640"/>
            <a:ext cx="1730520" cy="819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1" descr=""/>
          <p:cNvPicPr/>
          <p:nvPr/>
        </p:nvPicPr>
        <p:blipFill>
          <a:blip r:embed="rId7"/>
          <a:stretch/>
        </p:blipFill>
        <p:spPr>
          <a:xfrm>
            <a:off x="7483320" y="5273640"/>
            <a:ext cx="1203480" cy="81936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179280" y="184428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30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A9F2F2-CADB-4E37-848F-5C2D182C452F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ftr" idx="5"/>
          </p:nvPr>
        </p:nvSpPr>
        <p:spPr>
          <a:xfrm>
            <a:off x="2987280" y="6237000"/>
            <a:ext cx="525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F Maste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2D18B-3257-4907-8676-0A9129D5BC2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8"/>
    <p:sldLayoutId id="2147483663" r:id="rId9"/>
    <p:sldLayoutId id="2147483664" r:id="rId10"/>
    <p:sldLayoutId id="2147483665" r:id="rId11"/>
    <p:sldLayoutId id="2147483666" r:id="rId12"/>
    <p:sldLayoutId id="2147483667" r:id="rId13"/>
    <p:sldLayoutId id="2147483668" r:id="rId14"/>
    <p:sldLayoutId id="2147483669" r:id="rId15"/>
    <p:sldLayoutId id="2147483670" r:id="rId16"/>
    <p:sldLayoutId id="2147483671" r:id="rId17"/>
    <p:sldLayoutId id="2147483672" r:id="rId18"/>
    <p:sldLayoutId id="2147483673" r:id="rId19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1359000" cy="132408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8"/>
          <p:cNvSpPr/>
          <p:nvPr/>
        </p:nvSpPr>
        <p:spPr>
          <a:xfrm>
            <a:off x="1440" y="1441440"/>
            <a:ext cx="9144000" cy="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0" y="1542960"/>
            <a:ext cx="9144000" cy="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0" y="1585800"/>
            <a:ext cx="9144000" cy="7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2"/>
          <p:cNvSpPr/>
          <p:nvPr/>
        </p:nvSpPr>
        <p:spPr>
          <a:xfrm>
            <a:off x="0" y="1370160"/>
            <a:ext cx="9144000" cy="71280"/>
          </a:xfrm>
          <a:prstGeom prst="rect">
            <a:avLst/>
          </a:prstGeom>
          <a:solidFill>
            <a:srgbClr val="3fb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13" descr=""/>
          <p:cNvPicPr/>
          <p:nvPr/>
        </p:nvPicPr>
        <p:blipFill>
          <a:blip r:embed="rId3"/>
          <a:stretch/>
        </p:blipFill>
        <p:spPr>
          <a:xfrm>
            <a:off x="0" y="0"/>
            <a:ext cx="1359000" cy="13240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14"/>
          <p:cNvSpPr/>
          <p:nvPr/>
        </p:nvSpPr>
        <p:spPr>
          <a:xfrm>
            <a:off x="1440" y="1441440"/>
            <a:ext cx="9144000" cy="3636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440" bIns="-104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15"/>
          <p:cNvSpPr/>
          <p:nvPr/>
        </p:nvSpPr>
        <p:spPr>
          <a:xfrm>
            <a:off x="0" y="1484280"/>
            <a:ext cx="9144000" cy="716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6"/>
          <p:cNvSpPr/>
          <p:nvPr/>
        </p:nvSpPr>
        <p:spPr>
          <a:xfrm>
            <a:off x="0" y="1542960"/>
            <a:ext cx="9144000" cy="36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7"/>
          <p:cNvSpPr/>
          <p:nvPr/>
        </p:nvSpPr>
        <p:spPr>
          <a:xfrm>
            <a:off x="0" y="1585800"/>
            <a:ext cx="9144000" cy="716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0" y="1370160"/>
            <a:ext cx="9144000" cy="71280"/>
          </a:xfrm>
          <a:prstGeom prst="rect">
            <a:avLst/>
          </a:prstGeom>
          <a:solidFill>
            <a:srgbClr val="3fb6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179280" y="184428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30351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E3CC7-5F0A-4831-BBB7-60946DDEFB7B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8"/>
          </p:nvPr>
        </p:nvSpPr>
        <p:spPr>
          <a:xfrm>
            <a:off x="2987280" y="6237000"/>
            <a:ext cx="5256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HF Master Trai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6166B-5D9F-41C0-BEAA-8B54A6AC9A35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10309-A49D-49BE-B719-83D406042871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0" y="1628280"/>
            <a:ext cx="9144000" cy="5092920"/>
          </a:xfrm>
          <a:prstGeom prst="rect">
            <a:avLst/>
          </a:prstGeom>
          <a:blipFill rotWithShape="0">
            <a:blip r:embed="rId1"/>
            <a:tile tx="0" ty="0" sx="100000" sy="100000" algn="ctr"/>
          </a:blipFill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7575d1"/>
                </a:solidFill>
                <a:latin typeface="Arial"/>
              </a:rPr>
              <a:t>TANZANIA MALEZI SUMMIT 202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Leveraging Private Sector Partnerships to Enhance Early Childhood Development Services: A National Multi-sectoral ECD Program Experience from Pwani Region, Tanzan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575d1"/>
                </a:solidFill>
                <a:latin typeface="Arial"/>
              </a:rPr>
              <a:t>Rock City Mall-Mwanz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7575d1"/>
                </a:solidFill>
                <a:latin typeface="Arial"/>
              </a:rPr>
              <a:t>23</a:t>
            </a:r>
            <a:r>
              <a:rPr b="1" i="1" lang="en-US" sz="3200" spc="-1" strike="noStrike" baseline="30000">
                <a:solidFill>
                  <a:srgbClr val="7575d1"/>
                </a:solidFill>
                <a:latin typeface="Arial"/>
              </a:rPr>
              <a:t>rd</a:t>
            </a:r>
            <a:r>
              <a:rPr b="1" i="1" lang="en-US" sz="3200" spc="-1" strike="noStrike">
                <a:solidFill>
                  <a:srgbClr val="7575d1"/>
                </a:solidFill>
                <a:latin typeface="Arial"/>
              </a:rPr>
              <a:t> -24</a:t>
            </a:r>
            <a:r>
              <a:rPr b="1" i="1" lang="en-US" sz="3200" spc="-1" strike="noStrike" baseline="30000">
                <a:solidFill>
                  <a:srgbClr val="7575d1"/>
                </a:solidFill>
                <a:latin typeface="Arial"/>
              </a:rPr>
              <a:t>th</a:t>
            </a:r>
            <a:r>
              <a:rPr b="1" i="1" lang="en-US" sz="3200" spc="-1" strike="noStrike">
                <a:solidFill>
                  <a:srgbClr val="7575d1"/>
                </a:solidFill>
                <a:latin typeface="Arial"/>
              </a:rPr>
              <a:t>  May,20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Picture 1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87280" y="16200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onclus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179280" y="1557360"/>
            <a:ext cx="8856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The study concludes that strategic engagement of the private sector—particularly financial institutions—has positively impacted ECD service delivery and community involvement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Strengthening public-private collaboration frameworks and aligning CSR efforts with national ECD priorities is critical to ensuring long-term sustainability and impac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476C-F8D0-4271-A442-331C2B6B3509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187280" y="16200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ferenc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79280" y="1557360"/>
            <a:ext cx="8856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Opportunity International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 (2025).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USAID CATALYZE Education Finance Activity – Tanzania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German Sparkassenstiftung Eastern Africa.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 (2025).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Tanzania Projects Overview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Ministry of Health, Community Development, Gender, Eldery and Children 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(2021). </a:t>
            </a:r>
            <a:r>
              <a:rPr b="0" i="1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National Multi-Sectoral Early Childhood Development Programme (NM-ECDP) 2022–2026</a:t>
            </a: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46080-DB27-44D5-AE09-F9DE8CE357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70c0"/>
              </a:solidFill>
              <a:latin typeface="Arial"/>
            </a:endParaRPr>
          </a:p>
        </p:txBody>
      </p:sp>
      <p:sp>
        <p:nvSpPr>
          <p:cNvPr id="216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68A1-8352-4EEE-9DE4-7CCEAE57BB1F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" descr=""/>
          <p:cNvPicPr/>
          <p:nvPr/>
        </p:nvPicPr>
        <p:blipFill>
          <a:blip r:embed="rId2"/>
          <a:srcRect l="0" t="18499" r="0" b="36352"/>
          <a:stretch/>
        </p:blipFill>
        <p:spPr>
          <a:xfrm>
            <a:off x="250920" y="1916280"/>
            <a:ext cx="4425840" cy="48052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2" descr=""/>
          <p:cNvPicPr/>
          <p:nvPr/>
        </p:nvPicPr>
        <p:blipFill>
          <a:blip r:embed="rId3"/>
          <a:srcRect l="0" t="24803" r="0" b="31102"/>
          <a:stretch/>
        </p:blipFill>
        <p:spPr>
          <a:xfrm>
            <a:off x="4937040" y="1916280"/>
            <a:ext cx="3994200" cy="468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7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960720" cy="3903480"/>
          </a:xfrm>
          <a:prstGeom prst="rect">
            <a:avLst/>
          </a:prstGeom>
          <a:ln w="0">
            <a:noFill/>
          </a:ln>
        </p:spPr>
      </p:pic>
      <p:pic>
        <p:nvPicPr>
          <p:cNvPr id="222" name="Picture 9" descr=""/>
          <p:cNvPicPr/>
          <p:nvPr/>
        </p:nvPicPr>
        <p:blipFill>
          <a:blip r:embed="rId2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  <p:pic>
        <p:nvPicPr>
          <p:cNvPr id="223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  <p:pic>
        <p:nvPicPr>
          <p:cNvPr id="224" name="Picture 5" descr=""/>
          <p:cNvPicPr/>
          <p:nvPr/>
        </p:nvPicPr>
        <p:blipFill>
          <a:blip r:embed="rId4"/>
          <a:stretch/>
        </p:blipFill>
        <p:spPr>
          <a:xfrm>
            <a:off x="152280" y="152280"/>
            <a:ext cx="2843280" cy="134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179280" y="184428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                 </a:t>
            </a:r>
            <a:r>
              <a:rPr b="1" lang="en-US" sz="4400" spc="-1" strike="noStrike">
                <a:solidFill>
                  <a:srgbClr val="00b0f0"/>
                </a:solidFill>
                <a:latin typeface="Arial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87280" y="27468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0D181-7A63-4958-8E37-DB251BCE42D0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179280" y="1844280"/>
            <a:ext cx="8785440" cy="42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Backgroun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Objectiv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Method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Resul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Conclusions and Recommend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7280" y="24624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Backgroun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179280" y="1557360"/>
            <a:ext cx="87854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rly Childhood Development (ECD) is a foundational stage that significantly influences lifelong learning, health, and well-being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anzania, access to quality ECD services remains a challenge in many region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00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address this, the government launched the National Multisectoral ECD Programme (2022–2026), promoting coordinated interventions across sectors for children aged 0–8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5A95F-8F6D-4504-BC5E-885873B5496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87280" y="24624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Objectiv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179280" y="1557360"/>
            <a:ext cx="878544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Arial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explores the contributions of private sector specifically financial institutions in enhancing access to Early Childhood Development services in Pwani Regio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0D3C93-5FA5-4703-941C-1C1FE16A450E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187280" y="24624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ethod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179280" y="1557360"/>
            <a:ext cx="8856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A mixed-methods approach was used, involving key informant interviews with representatives from financial institutions ( NMB, CRDB and NBC), government officials, and local communities, alongside Focus Group Discussions with careg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1B18E-ADBC-4D35-ABCA-2BB3D1D6F67B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87280" y="24624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Methodolog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179280" y="1557360"/>
            <a:ext cx="8856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Program documents and CSR reports were reviewed to triangulate data. Thematic analysis and comparative baseline-endline indicators were appl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Thematic analysis and comparative baseline-endline indicators were appli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0AC8D-E32F-4CEF-93D5-59FCCF3F288A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7499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E4C21-0749-482E-9956-976AEC1212D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Content Placeholder 2"/>
          <p:cNvGraphicFramePr/>
          <p:nvPr/>
        </p:nvGraphicFramePr>
        <p:xfrm>
          <a:off x="201600" y="1649520"/>
          <a:ext cx="8740800" cy="464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96" name="Content Placeholder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1600" y="1649520"/>
                    <a:ext cx="874080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97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87280" y="190080"/>
            <a:ext cx="7499520" cy="99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91F4-E64F-4789-967B-4553B7554B7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Content Placeholder 7"/>
          <p:cNvGraphicFramePr/>
          <p:nvPr/>
        </p:nvGraphicFramePr>
        <p:xfrm>
          <a:off x="-50760" y="1649520"/>
          <a:ext cx="9245520" cy="4646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01" name="Content Placeholder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-50760" y="1649520"/>
                    <a:ext cx="9245520" cy="464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2" name="Picture 4" descr=""/>
          <p:cNvPicPr/>
          <p:nvPr/>
        </p:nvPicPr>
        <p:blipFill>
          <a:blip r:embed="rId3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87280" y="219240"/>
            <a:ext cx="749952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2060"/>
                </a:solidFill>
                <a:latin typeface="Arial"/>
              </a:rPr>
              <a:t>Resul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179280" y="1557360"/>
            <a:ext cx="8856720" cy="468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Financial institutions contributed significantly through in-kind support, financial literacy and savings groups training for caregive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Provision of learning materials to vulnerable childr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5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  <a:ea typeface="Calibri"/>
              </a:rPr>
              <a:t>Enhanced parental and community awareness of child developmen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107000"/>
              </a:lnSpc>
              <a:spcBef>
                <a:spcPts val="799"/>
              </a:spcBef>
              <a:spcAft>
                <a:spcPts val="799"/>
              </a:spcAft>
              <a:buClr>
                <a:srgbClr val="000000"/>
              </a:buClr>
              <a:buFont typeface="Calibri"/>
              <a:buChar char="•"/>
              <a:tabLst>
                <a:tab algn="l" pos="45180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Slide Number Placeholder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6F42E4-ABD5-4C91-9D7C-841B25A75658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2843280" cy="1341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17T13:51:02Z</dcterms:created>
  <dc:creator>User</dc:creator>
  <dc:description/>
  <dc:language>en-US</dc:language>
  <cp:lastModifiedBy>user</cp:lastModifiedBy>
  <dcterms:modified xsi:type="dcterms:W3CDTF">2025-05-18T19:46:50Z</dcterms:modified>
  <cp:revision>920</cp:revision>
  <dc:subject/>
  <dc:title>Name of section/unit maximum of 3 lines can be placed here</dc:title>
</cp:coreProperties>
</file>