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</p:sldIdLst>
  <p:sldSz cx="9144000" cy="51435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dt" idx="10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ftr" idx="11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 type="sldNum" idx="12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DA6207B-9F53-4FE0-B998-FE00BA595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 type="sldNum" idx="27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2D6B2E37-1077-4111-BD77-8FB5D7F2ADFD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 type="sldNum" idx="32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69FF3963-FD2C-4E9F-9F29-0AE5B30D3027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Num" idx="28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71CB7204-459E-4AF2-A837-CC02841A193E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sldNum" idx="29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41112EC1-00FB-4B34-8230-C8A6722AE5E9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 type="sldNum" idx="30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A3762F1-9607-47D8-8248-12F5A6618699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040" cy="308592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400640"/>
            <a:ext cx="5486040" cy="3600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sldNum" idx="31"/>
          </p:nvPr>
        </p:nvSpPr>
        <p:spPr>
          <a:xfrm>
            <a:off x="3884760" y="8685360"/>
            <a:ext cx="2971440" cy="45828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88CFA62D-EBF0-4235-BB98-04AE4917F75C}" type="slidenum">
              <a:rPr b="0" lang="en-US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0CE0-538B-4AD0-9A57-9CB8B8D805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DC98C-24AA-498D-B488-C5162AC59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3D66-4D8D-45A0-9569-411A05BA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A7436-BAD8-4411-AD3B-4B9E05AAC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8C77E-345C-42BE-A10E-D254630F8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41ED7-08EB-4188-99D8-FA1766580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A01F9-34BD-4A2D-AEF2-2CEBABE00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CDDFB-9254-4787-AF58-16DFF7C7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8DD6B-77B4-419B-861B-D4A66981D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B1A36-7115-4EA4-A2D5-A76A4F42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18134-DCF4-403A-841D-2F473DE9B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0642-2458-4184-B23E-0DB1C5E3E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B5142-3DFD-4165-B119-0DF41A521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ED3B7-46D4-4416-BAAB-DBA4A6F00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CE831-ED7A-402F-A559-CDA3D2193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84F57-9DFF-453A-88FA-8782D87EF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4122F-F5F8-4ED1-8D3B-D77EAEE0C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8F70A8-9B9E-4120-9023-2C87481D2F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A404D9-A01E-4C8D-8F93-B7FB14A269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C7E0F8-E2D7-4745-9C33-91BA394F8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E8685C-ADAF-4738-A2F4-A1A75C8C4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BF9CC8-0302-418A-9A36-318B28E08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D52C8-A3F8-4945-BAE8-19BDBC8BC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C9C05-85F5-433D-864B-2B4D70441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8339FD-1298-4F8D-B241-8AF5FAB28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911808-6882-40FF-B699-5AACFE07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109DF-1B41-45B3-9BAA-3C3DCF80B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4BD940-5F6D-44FA-BFA3-032DFD4DD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E43E88-A894-42CE-A43A-42532DBAD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B323E7-97DB-48C9-B7E6-909697C910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CECC-6FB5-4B1C-AB13-4CEE169B9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F7355-FFD8-4066-A5E2-62C532454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3E819-9C3B-4E26-848C-1D711566DE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451E8-22BA-4D83-9F1D-77978A184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FE02B-ACB4-4A74-BD54-2F2BC2C85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417"/>
              </a:spcBef>
              <a:buNone/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1034A-72D3-4034-8456-CA55952A5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029040" y="4767120"/>
            <a:ext cx="30859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45804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01FB11C2-9526-4642-9871-341E6091D5AB}" type="slidenum">
              <a:rPr b="0" lang="en-US" sz="1200" spc="-1" strike="noStrike">
                <a:solidFill>
                  <a:srgbClr val="898989"/>
                </a:solidFill>
                <a:latin typeface="等线"/>
                <a:ea typeface="等线"/>
              </a:rPr>
              <a:t>1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9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864000" indent="-324000">
              <a:lnSpc>
                <a:spcPct val="9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2" marL="1296000" indent="-288000">
              <a:lnSpc>
                <a:spcPct val="9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3" marL="1728000" indent="-216000">
              <a:lnSpc>
                <a:spcPct val="9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160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5" marL="2592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6" marL="3024000" indent="-216000">
              <a:lnSpc>
                <a:spcPct val="9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274680"/>
            <a:ext cx="7886520" cy="9932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28560" y="1370160"/>
            <a:ext cx="7886520" cy="3261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29040" y="4767120"/>
            <a:ext cx="30859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804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EDA66077-4205-45AB-9F4B-7562B806C79F}" type="slidenum">
              <a:rPr b="0" lang="en-US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30000" y="273960"/>
            <a:ext cx="7886520" cy="993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Master title sty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30000" y="1260720"/>
            <a:ext cx="3867840" cy="61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</a:rPr>
              <a:t>Edit Master text style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body"/>
          </p:nvPr>
        </p:nvSpPr>
        <p:spPr>
          <a:xfrm>
            <a:off x="630000" y="1878840"/>
            <a:ext cx="3867840" cy="2763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4629240" y="1260720"/>
            <a:ext cx="3886920" cy="6174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b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等线"/>
              </a:rPr>
              <a:t>Edit Master text style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body"/>
          </p:nvPr>
        </p:nvSpPr>
        <p:spPr>
          <a:xfrm>
            <a:off x="4629240" y="1878840"/>
            <a:ext cx="3886920" cy="2763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Edit Master text style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400" spc="-1" strike="noStrike">
                <a:solidFill>
                  <a:srgbClr val="000000"/>
                </a:solidFill>
                <a:latin typeface="等线"/>
              </a:rPr>
              <a:t>Second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2000" spc="-1" strike="noStrike">
                <a:solidFill>
                  <a:srgbClr val="000000"/>
                </a:solidFill>
                <a:latin typeface="等线"/>
              </a:rPr>
              <a:t>Third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our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1800" spc="-1" strike="noStrike">
                <a:solidFill>
                  <a:srgbClr val="000000"/>
                </a:solidFill>
                <a:latin typeface="等线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 type="dt" idx="7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1200" spc="-1" strike="noStrike">
                <a:solidFill>
                  <a:srgbClr val="8b8b8b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 type="ftr" idx="8"/>
          </p:nvPr>
        </p:nvSpPr>
        <p:spPr>
          <a:xfrm>
            <a:off x="3029040" y="4767120"/>
            <a:ext cx="308592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8"/>
          <p:cNvSpPr>
            <a:spLocks noGrp="1"/>
          </p:cNvSpPr>
          <p:nvPr>
            <p:ph type="sldNum" idx="9"/>
          </p:nvPr>
        </p:nvSpPr>
        <p:spPr>
          <a:xfrm>
            <a:off x="645804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898989"/>
                </a:solidFill>
                <a:latin typeface="等线"/>
                <a:ea typeface="等线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AF545D98-3BDE-4737-9164-6A857A1AA4A4}" type="slidenum">
              <a:rPr b="0" lang="en-US" sz="1200" spc="-1" strike="noStrike">
                <a:solidFill>
                  <a:srgbClr val="898989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矩形 4"/>
          <p:cNvSpPr/>
          <p:nvPr/>
        </p:nvSpPr>
        <p:spPr>
          <a:xfrm>
            <a:off x="-36360" y="-25560"/>
            <a:ext cx="9143640" cy="347472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474720"/>
              <a:gd name="textAreaBottom" fmla="*/ 3475080 h 3474720"/>
            </a:gdLst>
            <a:ahLst/>
            <a:rect l="textAreaLeft" t="textAreaTop" r="textAreaRight" b="textAreaBottom"/>
            <a:pathLst>
              <a:path w="9144000" h="3576258">
                <a:moveTo>
                  <a:pt x="0" y="0"/>
                </a:moveTo>
                <a:lnTo>
                  <a:pt x="9144000" y="0"/>
                </a:lnTo>
                <a:lnTo>
                  <a:pt x="9144000" y="2787774"/>
                </a:lnTo>
                <a:cubicBezTo>
                  <a:pt x="7685315" y="3201431"/>
                  <a:pt x="4593771" y="4333546"/>
                  <a:pt x="0" y="2787774"/>
                </a:cubicBez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 w="152400">
            <a:solidFill>
              <a:srgbClr val="4472c4"/>
            </a:solidFill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2000" spc="-1" strike="noStrike">
              <a:solidFill>
                <a:srgbClr val="ffffff"/>
              </a:solidFill>
              <a:latin typeface="Microsoft YaHei"/>
              <a:ea typeface="Microsoft YaHei"/>
            </a:endParaRPr>
          </a:p>
        </p:txBody>
      </p:sp>
      <p:sp>
        <p:nvSpPr>
          <p:cNvPr id="133" name="Freeform 7"/>
          <p:cNvSpPr/>
          <p:nvPr/>
        </p:nvSpPr>
        <p:spPr>
          <a:xfrm>
            <a:off x="4211640" y="4371840"/>
            <a:ext cx="356760" cy="358560"/>
          </a:xfrm>
          <a:custGeom>
            <a:avLst/>
            <a:gdLst>
              <a:gd name="textAreaLeft" fmla="*/ 0 w 356760"/>
              <a:gd name="textAreaRight" fmla="*/ 357120 w 3567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904" h="905">
                <a:moveTo>
                  <a:pt x="661" y="461"/>
                </a:moveTo>
                <a:lnTo>
                  <a:pt x="661" y="339"/>
                </a:lnTo>
                <a:cubicBezTo>
                  <a:pt x="661" y="304"/>
                  <a:pt x="605" y="304"/>
                  <a:pt x="605" y="339"/>
                </a:cubicBezTo>
                <a:lnTo>
                  <a:pt x="605" y="461"/>
                </a:lnTo>
                <a:cubicBezTo>
                  <a:pt x="605" y="543"/>
                  <a:pt x="538" y="610"/>
                  <a:pt x="456" y="610"/>
                </a:cubicBezTo>
                <a:cubicBezTo>
                  <a:pt x="455" y="610"/>
                  <a:pt x="454" y="610"/>
                  <a:pt x="453" y="610"/>
                </a:cubicBezTo>
                <a:lnTo>
                  <a:pt x="452" y="610"/>
                </a:lnTo>
                <a:lnTo>
                  <a:pt x="451" y="610"/>
                </a:lnTo>
                <a:cubicBezTo>
                  <a:pt x="450" y="610"/>
                  <a:pt x="449" y="610"/>
                  <a:pt x="448" y="610"/>
                </a:cubicBezTo>
                <a:cubicBezTo>
                  <a:pt x="366" y="610"/>
                  <a:pt x="299" y="543"/>
                  <a:pt x="299" y="461"/>
                </a:cubicBezTo>
                <a:lnTo>
                  <a:pt x="299" y="339"/>
                </a:lnTo>
                <a:cubicBezTo>
                  <a:pt x="299" y="304"/>
                  <a:pt x="244" y="304"/>
                  <a:pt x="244" y="339"/>
                </a:cubicBezTo>
                <a:cubicBezTo>
                  <a:pt x="244" y="355"/>
                  <a:pt x="244" y="461"/>
                  <a:pt x="244" y="461"/>
                </a:cubicBezTo>
                <a:cubicBezTo>
                  <a:pt x="244" y="564"/>
                  <a:pt x="320" y="650"/>
                  <a:pt x="419" y="664"/>
                </a:cubicBezTo>
                <a:lnTo>
                  <a:pt x="419" y="752"/>
                </a:lnTo>
                <a:lnTo>
                  <a:pt x="295" y="787"/>
                </a:lnTo>
                <a:lnTo>
                  <a:pt x="610" y="787"/>
                </a:lnTo>
                <a:lnTo>
                  <a:pt x="484" y="751"/>
                </a:lnTo>
                <a:lnTo>
                  <a:pt x="484" y="664"/>
                </a:lnTo>
                <a:cubicBezTo>
                  <a:pt x="584" y="650"/>
                  <a:pt x="661" y="564"/>
                  <a:pt x="661" y="461"/>
                </a:cubicBezTo>
                <a:close/>
                <a:moveTo>
                  <a:pt x="450" y="558"/>
                </a:moveTo>
                <a:cubicBezTo>
                  <a:pt x="451" y="558"/>
                  <a:pt x="451" y="558"/>
                  <a:pt x="452" y="558"/>
                </a:cubicBezTo>
                <a:cubicBezTo>
                  <a:pt x="453" y="558"/>
                  <a:pt x="453" y="558"/>
                  <a:pt x="454" y="558"/>
                </a:cubicBezTo>
                <a:cubicBezTo>
                  <a:pt x="509" y="558"/>
                  <a:pt x="554" y="514"/>
                  <a:pt x="554" y="459"/>
                </a:cubicBezTo>
                <a:lnTo>
                  <a:pt x="554" y="218"/>
                </a:lnTo>
                <a:cubicBezTo>
                  <a:pt x="554" y="163"/>
                  <a:pt x="509" y="118"/>
                  <a:pt x="454" y="118"/>
                </a:cubicBezTo>
                <a:cubicBezTo>
                  <a:pt x="453" y="118"/>
                  <a:pt x="453" y="118"/>
                  <a:pt x="452" y="118"/>
                </a:cubicBezTo>
                <a:cubicBezTo>
                  <a:pt x="452" y="118"/>
                  <a:pt x="451" y="118"/>
                  <a:pt x="450" y="118"/>
                </a:cubicBezTo>
                <a:cubicBezTo>
                  <a:pt x="395" y="118"/>
                  <a:pt x="351" y="163"/>
                  <a:pt x="351" y="218"/>
                </a:cubicBezTo>
                <a:lnTo>
                  <a:pt x="351" y="459"/>
                </a:lnTo>
                <a:cubicBezTo>
                  <a:pt x="351" y="514"/>
                  <a:pt x="395" y="558"/>
                  <a:pt x="450" y="558"/>
                </a:cubicBezTo>
                <a:close/>
                <a:moveTo>
                  <a:pt x="452" y="0"/>
                </a:moveTo>
                <a:cubicBezTo>
                  <a:pt x="702" y="0"/>
                  <a:pt x="904" y="203"/>
                  <a:pt x="904" y="453"/>
                </a:cubicBezTo>
                <a:cubicBezTo>
                  <a:pt x="904" y="702"/>
                  <a:pt x="702" y="905"/>
                  <a:pt x="452" y="905"/>
                </a:cubicBezTo>
                <a:cubicBezTo>
                  <a:pt x="202" y="905"/>
                  <a:pt x="0" y="702"/>
                  <a:pt x="0" y="453"/>
                </a:cubicBezTo>
                <a:cubicBezTo>
                  <a:pt x="0" y="203"/>
                  <a:pt x="202" y="0"/>
                  <a:pt x="452" y="0"/>
                </a:cubicBez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34" name="Freeform 8"/>
          <p:cNvSpPr/>
          <p:nvPr/>
        </p:nvSpPr>
        <p:spPr>
          <a:xfrm>
            <a:off x="324000" y="4084560"/>
            <a:ext cx="356760" cy="358560"/>
          </a:xfrm>
          <a:custGeom>
            <a:avLst/>
            <a:gdLst>
              <a:gd name="textAreaLeft" fmla="*/ 0 w 356760"/>
              <a:gd name="textAreaRight" fmla="*/ 357120 w 356760"/>
              <a:gd name="textAreaTop" fmla="*/ 0 h 358560"/>
              <a:gd name="textAreaBottom" fmla="*/ 358920 h 358560"/>
            </a:gdLst>
            <a:ahLst/>
            <a:rect l="textAreaLeft" t="textAreaTop" r="textAreaRight" b="textAreaBottom"/>
            <a:pathLst>
              <a:path w="422" h="422">
                <a:moveTo>
                  <a:pt x="211" y="0"/>
                </a:moveTo>
                <a:cubicBezTo>
                  <a:pt x="327" y="0"/>
                  <a:pt x="422" y="94"/>
                  <a:pt x="422" y="211"/>
                </a:cubicBezTo>
                <a:cubicBezTo>
                  <a:pt x="422" y="327"/>
                  <a:pt x="327" y="422"/>
                  <a:pt x="211" y="422"/>
                </a:cubicBezTo>
                <a:cubicBezTo>
                  <a:pt x="94" y="422"/>
                  <a:pt x="0" y="327"/>
                  <a:pt x="0" y="211"/>
                </a:cubicBezTo>
                <a:cubicBezTo>
                  <a:pt x="0" y="94"/>
                  <a:pt x="94" y="0"/>
                  <a:pt x="211" y="0"/>
                </a:cubicBezTo>
                <a:close/>
                <a:moveTo>
                  <a:pt x="340" y="117"/>
                </a:moveTo>
                <a:cubicBezTo>
                  <a:pt x="341" y="117"/>
                  <a:pt x="343" y="118"/>
                  <a:pt x="344" y="119"/>
                </a:cubicBezTo>
                <a:cubicBezTo>
                  <a:pt x="345" y="120"/>
                  <a:pt x="345" y="121"/>
                  <a:pt x="345" y="123"/>
                </a:cubicBezTo>
                <a:lnTo>
                  <a:pt x="345" y="222"/>
                </a:lnTo>
                <a:cubicBezTo>
                  <a:pt x="345" y="223"/>
                  <a:pt x="345" y="225"/>
                  <a:pt x="344" y="226"/>
                </a:cubicBezTo>
                <a:cubicBezTo>
                  <a:pt x="343" y="227"/>
                  <a:pt x="341" y="227"/>
                  <a:pt x="340" y="227"/>
                </a:cubicBezTo>
                <a:lnTo>
                  <a:pt x="220" y="227"/>
                </a:lnTo>
                <a:cubicBezTo>
                  <a:pt x="219" y="227"/>
                  <a:pt x="218" y="227"/>
                  <a:pt x="217" y="226"/>
                </a:cubicBezTo>
                <a:cubicBezTo>
                  <a:pt x="216" y="225"/>
                  <a:pt x="215" y="223"/>
                  <a:pt x="215" y="222"/>
                </a:cubicBezTo>
                <a:lnTo>
                  <a:pt x="215" y="179"/>
                </a:lnTo>
                <a:lnTo>
                  <a:pt x="286" y="164"/>
                </a:lnTo>
                <a:lnTo>
                  <a:pt x="286" y="162"/>
                </a:lnTo>
                <a:lnTo>
                  <a:pt x="215" y="171"/>
                </a:lnTo>
                <a:lnTo>
                  <a:pt x="215" y="123"/>
                </a:lnTo>
                <a:cubicBezTo>
                  <a:pt x="215" y="121"/>
                  <a:pt x="216" y="120"/>
                  <a:pt x="217" y="119"/>
                </a:cubicBezTo>
                <a:cubicBezTo>
                  <a:pt x="218" y="118"/>
                  <a:pt x="219" y="117"/>
                  <a:pt x="220" y="117"/>
                </a:cubicBezTo>
                <a:lnTo>
                  <a:pt x="340" y="117"/>
                </a:lnTo>
                <a:close/>
                <a:moveTo>
                  <a:pt x="220" y="96"/>
                </a:moveTo>
                <a:cubicBezTo>
                  <a:pt x="213" y="96"/>
                  <a:pt x="206" y="99"/>
                  <a:pt x="202" y="104"/>
                </a:cubicBezTo>
                <a:cubicBezTo>
                  <a:pt x="197" y="109"/>
                  <a:pt x="194" y="115"/>
                  <a:pt x="194" y="123"/>
                </a:cubicBezTo>
                <a:lnTo>
                  <a:pt x="194" y="174"/>
                </a:lnTo>
                <a:lnTo>
                  <a:pt x="186" y="175"/>
                </a:lnTo>
                <a:lnTo>
                  <a:pt x="186" y="166"/>
                </a:lnTo>
                <a:lnTo>
                  <a:pt x="162" y="166"/>
                </a:lnTo>
                <a:lnTo>
                  <a:pt x="137" y="151"/>
                </a:lnTo>
                <a:lnTo>
                  <a:pt x="77" y="151"/>
                </a:lnTo>
                <a:cubicBezTo>
                  <a:pt x="64" y="151"/>
                  <a:pt x="54" y="161"/>
                  <a:pt x="54" y="173"/>
                </a:cubicBezTo>
                <a:lnTo>
                  <a:pt x="54" y="243"/>
                </a:lnTo>
                <a:lnTo>
                  <a:pt x="77" y="243"/>
                </a:lnTo>
                <a:lnTo>
                  <a:pt x="77" y="192"/>
                </a:lnTo>
                <a:lnTo>
                  <a:pt x="81" y="192"/>
                </a:lnTo>
                <a:lnTo>
                  <a:pt x="81" y="243"/>
                </a:lnTo>
                <a:lnTo>
                  <a:pt x="81" y="256"/>
                </a:lnTo>
                <a:lnTo>
                  <a:pt x="81" y="350"/>
                </a:lnTo>
                <a:lnTo>
                  <a:pt x="106" y="350"/>
                </a:lnTo>
                <a:lnTo>
                  <a:pt x="106" y="272"/>
                </a:lnTo>
                <a:lnTo>
                  <a:pt x="112" y="272"/>
                </a:lnTo>
                <a:lnTo>
                  <a:pt x="112" y="350"/>
                </a:lnTo>
                <a:lnTo>
                  <a:pt x="137" y="350"/>
                </a:lnTo>
                <a:lnTo>
                  <a:pt x="137" y="336"/>
                </a:lnTo>
                <a:lnTo>
                  <a:pt x="137" y="256"/>
                </a:lnTo>
                <a:lnTo>
                  <a:pt x="137" y="243"/>
                </a:lnTo>
                <a:lnTo>
                  <a:pt x="137" y="192"/>
                </a:lnTo>
                <a:lnTo>
                  <a:pt x="137" y="177"/>
                </a:lnTo>
                <a:lnTo>
                  <a:pt x="162" y="192"/>
                </a:lnTo>
                <a:lnTo>
                  <a:pt x="186" y="192"/>
                </a:lnTo>
                <a:lnTo>
                  <a:pt x="186" y="185"/>
                </a:lnTo>
                <a:lnTo>
                  <a:pt x="194" y="184"/>
                </a:lnTo>
                <a:lnTo>
                  <a:pt x="194" y="222"/>
                </a:lnTo>
                <a:cubicBezTo>
                  <a:pt x="194" y="229"/>
                  <a:pt x="197" y="236"/>
                  <a:pt x="202" y="240"/>
                </a:cubicBezTo>
                <a:lnTo>
                  <a:pt x="202" y="241"/>
                </a:lnTo>
                <a:cubicBezTo>
                  <a:pt x="207" y="245"/>
                  <a:pt x="213" y="248"/>
                  <a:pt x="220" y="248"/>
                </a:cubicBezTo>
                <a:lnTo>
                  <a:pt x="340" y="248"/>
                </a:lnTo>
                <a:cubicBezTo>
                  <a:pt x="347" y="248"/>
                  <a:pt x="354" y="245"/>
                  <a:pt x="359" y="240"/>
                </a:cubicBezTo>
                <a:lnTo>
                  <a:pt x="359" y="241"/>
                </a:lnTo>
                <a:cubicBezTo>
                  <a:pt x="363" y="236"/>
                  <a:pt x="366" y="229"/>
                  <a:pt x="366" y="222"/>
                </a:cubicBezTo>
                <a:lnTo>
                  <a:pt x="366" y="123"/>
                </a:lnTo>
                <a:cubicBezTo>
                  <a:pt x="366" y="115"/>
                  <a:pt x="363" y="109"/>
                  <a:pt x="359" y="104"/>
                </a:cubicBezTo>
                <a:cubicBezTo>
                  <a:pt x="354" y="99"/>
                  <a:pt x="347" y="96"/>
                  <a:pt x="340" y="96"/>
                </a:cubicBezTo>
                <a:lnTo>
                  <a:pt x="220" y="96"/>
                </a:lnTo>
                <a:close/>
                <a:moveTo>
                  <a:pt x="344" y="254"/>
                </a:moveTo>
                <a:lnTo>
                  <a:pt x="344" y="277"/>
                </a:lnTo>
                <a:lnTo>
                  <a:pt x="325" y="277"/>
                </a:lnTo>
                <a:lnTo>
                  <a:pt x="346" y="351"/>
                </a:lnTo>
                <a:lnTo>
                  <a:pt x="319" y="351"/>
                </a:lnTo>
                <a:lnTo>
                  <a:pt x="298" y="277"/>
                </a:lnTo>
                <a:lnTo>
                  <a:pt x="271" y="277"/>
                </a:lnTo>
                <a:lnTo>
                  <a:pt x="250" y="351"/>
                </a:lnTo>
                <a:lnTo>
                  <a:pt x="223" y="351"/>
                </a:lnTo>
                <a:lnTo>
                  <a:pt x="244" y="277"/>
                </a:lnTo>
                <a:lnTo>
                  <a:pt x="221" y="277"/>
                </a:lnTo>
                <a:lnTo>
                  <a:pt x="221" y="254"/>
                </a:lnTo>
                <a:lnTo>
                  <a:pt x="344" y="254"/>
                </a:lnTo>
                <a:close/>
                <a:moveTo>
                  <a:pt x="109" y="75"/>
                </a:moveTo>
                <a:cubicBezTo>
                  <a:pt x="129" y="75"/>
                  <a:pt x="145" y="91"/>
                  <a:pt x="145" y="111"/>
                </a:cubicBezTo>
                <a:cubicBezTo>
                  <a:pt x="145" y="130"/>
                  <a:pt x="129" y="146"/>
                  <a:pt x="109" y="146"/>
                </a:cubicBezTo>
                <a:cubicBezTo>
                  <a:pt x="90" y="146"/>
                  <a:pt x="74" y="130"/>
                  <a:pt x="74" y="111"/>
                </a:cubicBezTo>
                <a:cubicBezTo>
                  <a:pt x="74" y="91"/>
                  <a:pt x="90" y="75"/>
                  <a:pt x="109" y="75"/>
                </a:cubicBezTo>
                <a:close/>
              </a:path>
            </a:pathLst>
          </a:custGeom>
          <a:solidFill>
            <a:schemeClr val="tx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35" name="TextBox 13"/>
          <p:cNvSpPr/>
          <p:nvPr/>
        </p:nvSpPr>
        <p:spPr>
          <a:xfrm>
            <a:off x="598320" y="555480"/>
            <a:ext cx="7429320" cy="31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等线"/>
              </a:rPr>
              <a:t>Quarterly Monitoring Progress Repor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等线"/>
              </a:rPr>
              <a:t>Updates on the Implementation of NMECD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等线"/>
              </a:rPr>
              <a:t>October - December 2022- 2</a:t>
            </a:r>
            <a:r>
              <a:rPr b="1" lang="en-GB" sz="2400" spc="-1" strike="noStrike" baseline="30000">
                <a:solidFill>
                  <a:srgbClr val="ffffff"/>
                </a:solidFill>
                <a:latin typeface="Calibri"/>
                <a:ea typeface="等线"/>
              </a:rPr>
              <a:t>nd </a:t>
            </a: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等线"/>
              </a:rPr>
              <a:t>Qua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  <a:ea typeface="等线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dt" idx="13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6262F0F3-ED91-489F-ACA5-4912235F11E4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TextBox 13"/>
          <p:cNvSpPr/>
          <p:nvPr/>
        </p:nvSpPr>
        <p:spPr>
          <a:xfrm>
            <a:off x="825480" y="3073320"/>
            <a:ext cx="7418160" cy="220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400" rIns="68400" tIns="34200" bIns="34200" anchor="t">
            <a:spAutoFit/>
          </a:bodyPr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等线"/>
              </a:rPr>
              <a:t>CONSULTANT:  INSTITUTE OF SOCIAL 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等线"/>
              </a:rPr>
              <a:t>DATE: 2 June, 202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等线"/>
              </a:rPr>
              <a:t>REVIEW &amp; ORIENTATION OF REGIONAL TEAM AND CS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GB" sz="2000" spc="-1" strike="noStrike">
                <a:solidFill>
                  <a:srgbClr val="000000"/>
                </a:solidFill>
                <a:latin typeface="Calibri"/>
                <a:ea typeface="等线"/>
              </a:rPr>
              <a:t>Venue: NEW DODOMA HOTE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189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90" name="TextBox 4"/>
          <p:cNvSpPr/>
          <p:nvPr/>
        </p:nvSpPr>
        <p:spPr>
          <a:xfrm>
            <a:off x="1379520" y="20628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51000" y="771480"/>
            <a:ext cx="8037000" cy="426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DengXian (Body)"/>
              </a:rPr>
              <a:t>2. Coordination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DengXian (Body)"/>
              </a:rPr>
              <a:t>a. </a:t>
            </a:r>
            <a:r>
              <a:rPr b="1" lang="en-GB" sz="2000" spc="-1" strike="noStrike">
                <a:solidFill>
                  <a:srgbClr val="ff0000"/>
                </a:solidFill>
                <a:latin typeface="DengXian (Body)"/>
              </a:rPr>
              <a:t>National level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MoCDGWSG – Participation of </a:t>
            </a: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MoH</a:t>
            </a: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, </a:t>
            </a: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MoFP,</a:t>
            </a: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&amp; Data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Engagement of Permanent Secretaries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Fast-track the preparation of NMECDP implementation guidelines for ease of implementation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b. Regional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CDOs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c. Sub-Regional Level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No defined structure at the Counci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Coordination structures at the council/district level, district SWO/CDO should act as a focal point to coordinate NMECDP at the Council/District level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22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B0FA2B59-1B82-4DFF-A952-FFE9388A9F8C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nodeType="clickEffect" fill="hold">
                      <p:stCondLst>
                        <p:cond delay="0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195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96" name="TextBox 4"/>
          <p:cNvSpPr/>
          <p:nvPr/>
        </p:nvSpPr>
        <p:spPr>
          <a:xfrm>
            <a:off x="1379520" y="20628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1000" y="873000"/>
            <a:ext cx="8181720" cy="416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chemeClr val="accent1">
                    <a:lumMod val="50000"/>
                  </a:schemeClr>
                </a:solidFill>
                <a:latin typeface="DengXian (Body)"/>
              </a:rPr>
              <a:t>3. Implementation of NMECDP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Departments at council level still working in isolation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Engagement of Private Sector and other NGOs limited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Social Welfare Officer at council level is not identified as an important actor based on the structure - representation of vulnerable children and issues of VAC is lacking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Direct alignment between activities listed in the NMECDP and routine activities executed by the Councils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Alignment of district plans with NMECDP Implementation Plan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Reporting template – but issues of reporting against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 type="dt" idx="23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A0E84FF9-9F9C-49DF-B41D-2A79778CE9C8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201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202" name="TextBox 4"/>
          <p:cNvSpPr/>
          <p:nvPr/>
        </p:nvSpPr>
        <p:spPr>
          <a:xfrm>
            <a:off x="1379520" y="20628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51000" y="873000"/>
            <a:ext cx="8181720" cy="416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400" spc="-1" strike="noStrike">
                <a:solidFill>
                  <a:schemeClr val="accent1">
                    <a:lumMod val="50000"/>
                  </a:schemeClr>
                </a:solidFill>
                <a:latin typeface="DengXian (Body)"/>
              </a:rPr>
              <a:t>3. Implementation of NMECDP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Media engagement with government officials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Implementation budget at Council level – Planning/budget Department 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Government/Political will at the Regional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Awareness of the NMECDP at the District Level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Translation of the Multisectoral approach is limited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DengXian (Body)"/>
                <a:ea typeface="等线"/>
              </a:rPr>
              <a:t>Best Practice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等线"/>
              </a:rPr>
              <a:t>DSM Region there were evidence of high level commitment in the implementation of NMECDP.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 type="dt" idx="24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509A9DB-A63B-4004-AF54-77761A4F3E15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207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208" name="TextBox 4"/>
          <p:cNvSpPr/>
          <p:nvPr/>
        </p:nvSpPr>
        <p:spPr>
          <a:xfrm>
            <a:off x="1379520" y="20628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51000" y="873000"/>
            <a:ext cx="7965720" cy="41684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DengXian (Body)"/>
              </a:rPr>
              <a:t>4. Reporting and data 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ngXian (Body)"/>
              </a:rPr>
              <a:t>The current reporting template is aligned with NM-ECDP implementation plan which will strengthen accountability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ngXian (Body)"/>
              </a:rPr>
              <a:t>It will be easy to track progress of the implementation of NMECDP- Dash board + Score card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</a:rPr>
              <a:t>Challenge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ngXian (Body)"/>
              </a:rPr>
              <a:t>How do regions set target against national target stipulated in the NMECDP implementation plan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ngXian (Body)"/>
              </a:rPr>
              <a:t>Double reporting of implementation may still occur if there is no mechanism for consolidation of implementation reports from different ECD stakeholders at the regional level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lvl="1" marL="343080" indent="-34308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DengXian (Body)"/>
              </a:rPr>
              <a:t>Quarterly plans must be cascaded from NMECDP annual implementation plan </a:t>
            </a:r>
            <a:r>
              <a:rPr b="1" lang="en-GB" sz="1800" spc="-1" strike="noStrike">
                <a:solidFill>
                  <a:srgbClr val="ff0000"/>
                </a:solidFill>
                <a:latin typeface="DengXian (Body)"/>
              </a:rPr>
              <a:t>(Ref. Appendix 1: NM-ECDP- Implementation Plan</a:t>
            </a:r>
            <a:r>
              <a:rPr b="0" lang="en-GB" sz="1800" spc="-1" strike="noStrike">
                <a:solidFill>
                  <a:srgbClr val="ff0000"/>
                </a:solidFill>
                <a:latin typeface="DengXian (Body)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25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93E0FB87-7AF7-4A7B-84DB-93B21A17FF89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0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矩形 4"/>
          <p:cNvSpPr/>
          <p:nvPr/>
        </p:nvSpPr>
        <p:spPr>
          <a:xfrm>
            <a:off x="0" y="-176040"/>
            <a:ext cx="9143640" cy="3889080"/>
          </a:xfrm>
          <a:custGeom>
            <a:avLst/>
            <a:gdLst>
              <a:gd name="textAreaLeft" fmla="*/ 0 w 9143640"/>
              <a:gd name="textAreaRight" fmla="*/ 9144000 w 9143640"/>
              <a:gd name="textAreaTop" fmla="*/ 0 h 3889080"/>
              <a:gd name="textAreaBottom" fmla="*/ 3889440 h 3889080"/>
            </a:gdLst>
            <a:ahLst/>
            <a:rect l="textAreaLeft" t="textAreaTop" r="textAreaRight" b="textAreaBottom"/>
            <a:pathLst>
              <a:path w="9144000" h="3576258">
                <a:moveTo>
                  <a:pt x="0" y="0"/>
                </a:moveTo>
                <a:lnTo>
                  <a:pt x="9144000" y="0"/>
                </a:lnTo>
                <a:lnTo>
                  <a:pt x="9144000" y="2787774"/>
                </a:lnTo>
                <a:cubicBezTo>
                  <a:pt x="7685315" y="3201431"/>
                  <a:pt x="4593771" y="4333546"/>
                  <a:pt x="0" y="2787774"/>
                </a:cubicBezTo>
                <a:lnTo>
                  <a:pt x="0" y="0"/>
                </a:lnTo>
                <a:close/>
              </a:path>
            </a:pathLst>
          </a:cu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Calibri"/>
              <a:ea typeface="宋体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dt" idx="26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2B8DB0C5-61C6-4FEB-873B-EAA378ACF320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Picture 8" descr="download (3)"/>
          <p:cNvPicPr/>
          <p:nvPr/>
        </p:nvPicPr>
        <p:blipFill>
          <a:blip r:embed="rId1"/>
          <a:stretch/>
        </p:blipFill>
        <p:spPr>
          <a:xfrm>
            <a:off x="2843280" y="484200"/>
            <a:ext cx="3600000" cy="28080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5" descr="MMAG00373_0000[1]"/>
          <p:cNvPicPr/>
          <p:nvPr/>
        </p:nvPicPr>
        <p:blipFill>
          <a:blip r:embed="rId2"/>
          <a:stretch/>
        </p:blipFill>
        <p:spPr>
          <a:xfrm>
            <a:off x="6648480" y="1851120"/>
            <a:ext cx="2130120" cy="2130120"/>
          </a:xfrm>
          <a:prstGeom prst="rect">
            <a:avLst/>
          </a:prstGeom>
          <a:ln w="0">
            <a:noFill/>
          </a:ln>
        </p:spPr>
      </p:pic>
      <p:sp>
        <p:nvSpPr>
          <p:cNvPr id="216" name="Content Placeholder 5"/>
          <p:cNvSpPr/>
          <p:nvPr/>
        </p:nvSpPr>
        <p:spPr>
          <a:xfrm flipV="1" rot="10800000">
            <a:off x="1776240" y="4041720"/>
            <a:ext cx="5532120" cy="455400"/>
          </a:xfrm>
          <a:prstGeom prst="rect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  <a:tabLst>
                <a:tab algn="l" pos="0"/>
              </a:tabLst>
            </a:pPr>
            <a:r>
              <a:rPr b="0" lang="en-GB" sz="2400" spc="-1" strike="noStrike">
                <a:solidFill>
                  <a:srgbClr val="ffe701"/>
                </a:solidFill>
                <a:latin typeface="Impact"/>
              </a:rPr>
              <a:t>Asanteni kwa kunisikili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flag"/>
          <p:cNvPicPr/>
          <p:nvPr/>
        </p:nvPicPr>
        <p:blipFill>
          <a:blip r:embed="rId3"/>
          <a:stretch/>
        </p:blipFill>
        <p:spPr>
          <a:xfrm>
            <a:off x="7093080" y="0"/>
            <a:ext cx="1942920" cy="119664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vert"/>
  </p:transition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任意多边形 2"/>
          <p:cNvSpPr/>
          <p:nvPr/>
        </p:nvSpPr>
        <p:spPr>
          <a:xfrm>
            <a:off x="3348000" y="636480"/>
            <a:ext cx="542520" cy="485280"/>
          </a:xfrm>
          <a:custGeom>
            <a:avLst/>
            <a:gdLst>
              <a:gd name="textAreaLeft" fmla="*/ 0 w 542520"/>
              <a:gd name="textAreaRight" fmla="*/ 542880 w 54252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024400" h="914402">
                <a:moveTo>
                  <a:pt x="301824" y="0"/>
                </a:moveTo>
                <a:cubicBezTo>
                  <a:pt x="722014" y="0"/>
                  <a:pt x="722014" y="0"/>
                  <a:pt x="722014" y="0"/>
                </a:cubicBezTo>
                <a:cubicBezTo>
                  <a:pt x="752028" y="0"/>
                  <a:pt x="788044" y="21020"/>
                  <a:pt x="803051" y="46546"/>
                </a:cubicBezTo>
                <a:cubicBezTo>
                  <a:pt x="1013145" y="410655"/>
                  <a:pt x="1013145" y="410655"/>
                  <a:pt x="1013145" y="410655"/>
                </a:cubicBezTo>
                <a:cubicBezTo>
                  <a:pt x="1028152" y="436180"/>
                  <a:pt x="1028152" y="478222"/>
                  <a:pt x="1013145" y="503747"/>
                </a:cubicBezTo>
                <a:cubicBezTo>
                  <a:pt x="803051" y="867856"/>
                  <a:pt x="803051" y="867856"/>
                  <a:pt x="803051" y="867856"/>
                </a:cubicBezTo>
                <a:cubicBezTo>
                  <a:pt x="788044" y="893381"/>
                  <a:pt x="752028" y="914402"/>
                  <a:pt x="722014" y="914402"/>
                </a:cubicBezTo>
                <a:lnTo>
                  <a:pt x="301824" y="914402"/>
                </a:lnTo>
                <a:cubicBezTo>
                  <a:pt x="272561" y="914402"/>
                  <a:pt x="235794" y="893381"/>
                  <a:pt x="220787" y="867856"/>
                </a:cubicBezTo>
                <a:cubicBezTo>
                  <a:pt x="10692" y="503747"/>
                  <a:pt x="10692" y="503747"/>
                  <a:pt x="10692" y="503747"/>
                </a:cubicBezTo>
                <a:cubicBezTo>
                  <a:pt x="3565" y="490984"/>
                  <a:pt x="0" y="474093"/>
                  <a:pt x="0" y="457201"/>
                </a:cubicBezTo>
                <a:cubicBezTo>
                  <a:pt x="0" y="440310"/>
                  <a:pt x="3565" y="423417"/>
                  <a:pt x="10692" y="410655"/>
                </a:cubicBezTo>
                <a:cubicBezTo>
                  <a:pt x="220787" y="46546"/>
                  <a:pt x="220787" y="46546"/>
                  <a:pt x="220787" y="46546"/>
                </a:cubicBezTo>
                <a:cubicBezTo>
                  <a:pt x="235794" y="21020"/>
                  <a:pt x="272561" y="0"/>
                  <a:pt x="301824" y="0"/>
                </a:cubicBezTo>
                <a:close/>
              </a:path>
            </a:pathLst>
          </a:cu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等线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任意多边形 3"/>
          <p:cNvSpPr/>
          <p:nvPr/>
        </p:nvSpPr>
        <p:spPr>
          <a:xfrm>
            <a:off x="3348000" y="1682640"/>
            <a:ext cx="542520" cy="485280"/>
          </a:xfrm>
          <a:custGeom>
            <a:avLst/>
            <a:gdLst>
              <a:gd name="textAreaLeft" fmla="*/ 0 w 542520"/>
              <a:gd name="textAreaRight" fmla="*/ 542880 w 54252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024400" h="914402">
                <a:moveTo>
                  <a:pt x="301824" y="0"/>
                </a:moveTo>
                <a:cubicBezTo>
                  <a:pt x="722014" y="0"/>
                  <a:pt x="722014" y="0"/>
                  <a:pt x="722014" y="0"/>
                </a:cubicBezTo>
                <a:cubicBezTo>
                  <a:pt x="752028" y="0"/>
                  <a:pt x="788044" y="21020"/>
                  <a:pt x="803051" y="46546"/>
                </a:cubicBezTo>
                <a:cubicBezTo>
                  <a:pt x="1013145" y="410655"/>
                  <a:pt x="1013145" y="410655"/>
                  <a:pt x="1013145" y="410655"/>
                </a:cubicBezTo>
                <a:cubicBezTo>
                  <a:pt x="1028152" y="436180"/>
                  <a:pt x="1028152" y="478222"/>
                  <a:pt x="1013145" y="503747"/>
                </a:cubicBezTo>
                <a:cubicBezTo>
                  <a:pt x="803051" y="867856"/>
                  <a:pt x="803051" y="867856"/>
                  <a:pt x="803051" y="867856"/>
                </a:cubicBezTo>
                <a:cubicBezTo>
                  <a:pt x="788044" y="893381"/>
                  <a:pt x="752028" y="914402"/>
                  <a:pt x="722014" y="914402"/>
                </a:cubicBezTo>
                <a:lnTo>
                  <a:pt x="301824" y="914402"/>
                </a:lnTo>
                <a:cubicBezTo>
                  <a:pt x="272561" y="914402"/>
                  <a:pt x="235794" y="893381"/>
                  <a:pt x="220787" y="867856"/>
                </a:cubicBezTo>
                <a:cubicBezTo>
                  <a:pt x="10692" y="503747"/>
                  <a:pt x="10692" y="503747"/>
                  <a:pt x="10692" y="503747"/>
                </a:cubicBezTo>
                <a:cubicBezTo>
                  <a:pt x="3565" y="490984"/>
                  <a:pt x="0" y="474093"/>
                  <a:pt x="0" y="457201"/>
                </a:cubicBezTo>
                <a:cubicBezTo>
                  <a:pt x="0" y="440310"/>
                  <a:pt x="3565" y="423417"/>
                  <a:pt x="10692" y="410655"/>
                </a:cubicBezTo>
                <a:cubicBezTo>
                  <a:pt x="220787" y="46546"/>
                  <a:pt x="220787" y="46546"/>
                  <a:pt x="220787" y="46546"/>
                </a:cubicBezTo>
                <a:cubicBezTo>
                  <a:pt x="235794" y="21020"/>
                  <a:pt x="272561" y="0"/>
                  <a:pt x="301824" y="0"/>
                </a:cubicBezTo>
                <a:close/>
              </a:path>
            </a:pathLst>
          </a:cu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等线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任意多边形 4"/>
          <p:cNvSpPr/>
          <p:nvPr/>
        </p:nvSpPr>
        <p:spPr>
          <a:xfrm>
            <a:off x="3348000" y="2670120"/>
            <a:ext cx="542520" cy="485280"/>
          </a:xfrm>
          <a:custGeom>
            <a:avLst/>
            <a:gdLst>
              <a:gd name="textAreaLeft" fmla="*/ 0 w 542520"/>
              <a:gd name="textAreaRight" fmla="*/ 542880 w 54252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024400" h="914402">
                <a:moveTo>
                  <a:pt x="301824" y="0"/>
                </a:moveTo>
                <a:cubicBezTo>
                  <a:pt x="722014" y="0"/>
                  <a:pt x="722014" y="0"/>
                  <a:pt x="722014" y="0"/>
                </a:cubicBezTo>
                <a:cubicBezTo>
                  <a:pt x="752028" y="0"/>
                  <a:pt x="788044" y="21020"/>
                  <a:pt x="803051" y="46546"/>
                </a:cubicBezTo>
                <a:cubicBezTo>
                  <a:pt x="1013145" y="410655"/>
                  <a:pt x="1013145" y="410655"/>
                  <a:pt x="1013145" y="410655"/>
                </a:cubicBezTo>
                <a:cubicBezTo>
                  <a:pt x="1028152" y="436180"/>
                  <a:pt x="1028152" y="478222"/>
                  <a:pt x="1013145" y="503747"/>
                </a:cubicBezTo>
                <a:cubicBezTo>
                  <a:pt x="803051" y="867856"/>
                  <a:pt x="803051" y="867856"/>
                  <a:pt x="803051" y="867856"/>
                </a:cubicBezTo>
                <a:cubicBezTo>
                  <a:pt x="788044" y="893381"/>
                  <a:pt x="752028" y="914402"/>
                  <a:pt x="722014" y="914402"/>
                </a:cubicBezTo>
                <a:lnTo>
                  <a:pt x="301824" y="914402"/>
                </a:lnTo>
                <a:cubicBezTo>
                  <a:pt x="272561" y="914402"/>
                  <a:pt x="235794" y="893381"/>
                  <a:pt x="220787" y="867856"/>
                </a:cubicBezTo>
                <a:cubicBezTo>
                  <a:pt x="10692" y="503747"/>
                  <a:pt x="10692" y="503747"/>
                  <a:pt x="10692" y="503747"/>
                </a:cubicBezTo>
                <a:cubicBezTo>
                  <a:pt x="3565" y="490984"/>
                  <a:pt x="0" y="474093"/>
                  <a:pt x="0" y="457201"/>
                </a:cubicBezTo>
                <a:cubicBezTo>
                  <a:pt x="0" y="440310"/>
                  <a:pt x="3565" y="423417"/>
                  <a:pt x="10692" y="410655"/>
                </a:cubicBezTo>
                <a:cubicBezTo>
                  <a:pt x="220787" y="46546"/>
                  <a:pt x="220787" y="46546"/>
                  <a:pt x="220787" y="46546"/>
                </a:cubicBezTo>
                <a:cubicBezTo>
                  <a:pt x="235794" y="21020"/>
                  <a:pt x="272561" y="0"/>
                  <a:pt x="301824" y="0"/>
                </a:cubicBezTo>
                <a:close/>
              </a:path>
            </a:pathLst>
          </a:cu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等线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任意多边形 5"/>
          <p:cNvSpPr/>
          <p:nvPr/>
        </p:nvSpPr>
        <p:spPr>
          <a:xfrm>
            <a:off x="3348000" y="3608280"/>
            <a:ext cx="542520" cy="485280"/>
          </a:xfrm>
          <a:custGeom>
            <a:avLst/>
            <a:gdLst>
              <a:gd name="textAreaLeft" fmla="*/ 0 w 542520"/>
              <a:gd name="textAreaRight" fmla="*/ 542880 w 54252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1024400" h="914402">
                <a:moveTo>
                  <a:pt x="301824" y="0"/>
                </a:moveTo>
                <a:cubicBezTo>
                  <a:pt x="722014" y="0"/>
                  <a:pt x="722014" y="0"/>
                  <a:pt x="722014" y="0"/>
                </a:cubicBezTo>
                <a:cubicBezTo>
                  <a:pt x="752028" y="0"/>
                  <a:pt x="788044" y="21020"/>
                  <a:pt x="803051" y="46546"/>
                </a:cubicBezTo>
                <a:cubicBezTo>
                  <a:pt x="1013145" y="410655"/>
                  <a:pt x="1013145" y="410655"/>
                  <a:pt x="1013145" y="410655"/>
                </a:cubicBezTo>
                <a:cubicBezTo>
                  <a:pt x="1028152" y="436180"/>
                  <a:pt x="1028152" y="478222"/>
                  <a:pt x="1013145" y="503747"/>
                </a:cubicBezTo>
                <a:cubicBezTo>
                  <a:pt x="803051" y="867856"/>
                  <a:pt x="803051" y="867856"/>
                  <a:pt x="803051" y="867856"/>
                </a:cubicBezTo>
                <a:cubicBezTo>
                  <a:pt x="788044" y="893381"/>
                  <a:pt x="752028" y="914402"/>
                  <a:pt x="722014" y="914402"/>
                </a:cubicBezTo>
                <a:lnTo>
                  <a:pt x="301824" y="914402"/>
                </a:lnTo>
                <a:cubicBezTo>
                  <a:pt x="272561" y="914402"/>
                  <a:pt x="235794" y="893381"/>
                  <a:pt x="220787" y="867856"/>
                </a:cubicBezTo>
                <a:cubicBezTo>
                  <a:pt x="10692" y="503747"/>
                  <a:pt x="10692" y="503747"/>
                  <a:pt x="10692" y="503747"/>
                </a:cubicBezTo>
                <a:cubicBezTo>
                  <a:pt x="3565" y="490984"/>
                  <a:pt x="0" y="474093"/>
                  <a:pt x="0" y="457201"/>
                </a:cubicBezTo>
                <a:cubicBezTo>
                  <a:pt x="0" y="440310"/>
                  <a:pt x="3565" y="423417"/>
                  <a:pt x="10692" y="410655"/>
                </a:cubicBezTo>
                <a:cubicBezTo>
                  <a:pt x="220787" y="46546"/>
                  <a:pt x="220787" y="46546"/>
                  <a:pt x="220787" y="46546"/>
                </a:cubicBezTo>
                <a:cubicBezTo>
                  <a:pt x="235794" y="21020"/>
                  <a:pt x="272561" y="0"/>
                  <a:pt x="301824" y="0"/>
                </a:cubicBezTo>
                <a:close/>
              </a:path>
            </a:pathLst>
          </a:custGeom>
          <a:solidFill>
            <a:schemeClr val="tx1">
              <a:lumMod val="65000"/>
              <a:lumOff val="35000"/>
            </a:schemeClr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等线"/>
                <a:ea typeface="等线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任意多边形 6"/>
          <p:cNvSpPr/>
          <p:nvPr/>
        </p:nvSpPr>
        <p:spPr>
          <a:xfrm>
            <a:off x="3890880" y="635040"/>
            <a:ext cx="4355640" cy="483840"/>
          </a:xfrm>
          <a:custGeom>
            <a:avLst/>
            <a:gdLst>
              <a:gd name="textAreaLeft" fmla="*/ 0 w 4355640"/>
              <a:gd name="textAreaRight" fmla="*/ 4356000 w 4355640"/>
              <a:gd name="textAreaTop" fmla="*/ 0 h 483840"/>
              <a:gd name="textAreaBottom" fmla="*/ 484200 h 483840"/>
            </a:gdLst>
            <a:ahLst/>
            <a:rect l="textAreaLeft" t="textAreaTop" r="textAreaRight" b="textAreaBottom"/>
            <a:pathLst>
              <a:path w="4086223" h="600826">
                <a:moveTo>
                  <a:pt x="198320" y="0"/>
                </a:moveTo>
                <a:lnTo>
                  <a:pt x="349254" y="0"/>
                </a:lnTo>
                <a:lnTo>
                  <a:pt x="357937" y="0"/>
                </a:lnTo>
                <a:cubicBezTo>
                  <a:pt x="474414" y="0"/>
                  <a:pt x="474414" y="0"/>
                  <a:pt x="474414" y="0"/>
                </a:cubicBezTo>
                <a:lnTo>
                  <a:pt x="3611441" y="0"/>
                </a:lnTo>
                <a:lnTo>
                  <a:pt x="3752336" y="0"/>
                </a:lnTo>
                <a:lnTo>
                  <a:pt x="3771058" y="0"/>
                </a:lnTo>
                <a:cubicBezTo>
                  <a:pt x="3887535" y="0"/>
                  <a:pt x="3887535" y="0"/>
                  <a:pt x="3887535" y="0"/>
                </a:cubicBezTo>
                <a:cubicBezTo>
                  <a:pt x="3907256" y="0"/>
                  <a:pt x="3930921" y="13812"/>
                  <a:pt x="3940781" y="30584"/>
                </a:cubicBezTo>
                <a:cubicBezTo>
                  <a:pt x="4078828" y="269829"/>
                  <a:pt x="4078828" y="269829"/>
                  <a:pt x="4078828" y="269829"/>
                </a:cubicBezTo>
                <a:cubicBezTo>
                  <a:pt x="4088688" y="286601"/>
                  <a:pt x="4088688" y="314225"/>
                  <a:pt x="4078828" y="330997"/>
                </a:cubicBezTo>
                <a:cubicBezTo>
                  <a:pt x="3940781" y="570242"/>
                  <a:pt x="3940781" y="570242"/>
                  <a:pt x="3940781" y="570242"/>
                </a:cubicBezTo>
                <a:cubicBezTo>
                  <a:pt x="3930921" y="587014"/>
                  <a:pt x="3907256" y="600826"/>
                  <a:pt x="3887535" y="600826"/>
                </a:cubicBezTo>
                <a:lnTo>
                  <a:pt x="3752336" y="600826"/>
                </a:lnTo>
                <a:lnTo>
                  <a:pt x="3611441" y="600826"/>
                </a:lnTo>
                <a:lnTo>
                  <a:pt x="474414" y="600826"/>
                </a:lnTo>
                <a:lnTo>
                  <a:pt x="349254" y="600826"/>
                </a:lnTo>
                <a:lnTo>
                  <a:pt x="198320" y="600826"/>
                </a:lnTo>
                <a:cubicBezTo>
                  <a:pt x="179092" y="600826"/>
                  <a:pt x="154933" y="587014"/>
                  <a:pt x="145073" y="570242"/>
                </a:cubicBezTo>
                <a:cubicBezTo>
                  <a:pt x="7026" y="330997"/>
                  <a:pt x="7026" y="330997"/>
                  <a:pt x="7026" y="330997"/>
                </a:cubicBezTo>
                <a:cubicBezTo>
                  <a:pt x="2343" y="322611"/>
                  <a:pt x="0" y="311512"/>
                  <a:pt x="0" y="300413"/>
                </a:cubicBezTo>
                <a:cubicBezTo>
                  <a:pt x="0" y="289315"/>
                  <a:pt x="2343" y="278215"/>
                  <a:pt x="7026" y="269829"/>
                </a:cubicBezTo>
                <a:cubicBezTo>
                  <a:pt x="145073" y="30584"/>
                  <a:pt x="145073" y="30584"/>
                  <a:pt x="145073" y="30584"/>
                </a:cubicBezTo>
                <a:cubicBezTo>
                  <a:pt x="154933" y="13812"/>
                  <a:pt x="179092" y="0"/>
                  <a:pt x="198320" y="0"/>
                </a:cubicBezTo>
                <a:close/>
              </a:path>
            </a:pathLst>
          </a:cu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任意多边形 7"/>
          <p:cNvSpPr/>
          <p:nvPr/>
        </p:nvSpPr>
        <p:spPr>
          <a:xfrm>
            <a:off x="3890880" y="1682640"/>
            <a:ext cx="4355640" cy="485280"/>
          </a:xfrm>
          <a:custGeom>
            <a:avLst/>
            <a:gdLst>
              <a:gd name="textAreaLeft" fmla="*/ 0 w 4355640"/>
              <a:gd name="textAreaRight" fmla="*/ 4356000 w 43556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4086223" h="600826">
                <a:moveTo>
                  <a:pt x="198320" y="0"/>
                </a:moveTo>
                <a:lnTo>
                  <a:pt x="349254" y="0"/>
                </a:lnTo>
                <a:lnTo>
                  <a:pt x="357937" y="0"/>
                </a:lnTo>
                <a:cubicBezTo>
                  <a:pt x="474414" y="0"/>
                  <a:pt x="474414" y="0"/>
                  <a:pt x="474414" y="0"/>
                </a:cubicBezTo>
                <a:lnTo>
                  <a:pt x="3611441" y="0"/>
                </a:lnTo>
                <a:lnTo>
                  <a:pt x="3752336" y="0"/>
                </a:lnTo>
                <a:lnTo>
                  <a:pt x="3771058" y="0"/>
                </a:lnTo>
                <a:cubicBezTo>
                  <a:pt x="3887535" y="0"/>
                  <a:pt x="3887535" y="0"/>
                  <a:pt x="3887535" y="0"/>
                </a:cubicBezTo>
                <a:cubicBezTo>
                  <a:pt x="3907256" y="0"/>
                  <a:pt x="3930921" y="13812"/>
                  <a:pt x="3940781" y="30584"/>
                </a:cubicBezTo>
                <a:cubicBezTo>
                  <a:pt x="4078828" y="269829"/>
                  <a:pt x="4078828" y="269829"/>
                  <a:pt x="4078828" y="269829"/>
                </a:cubicBezTo>
                <a:cubicBezTo>
                  <a:pt x="4088688" y="286601"/>
                  <a:pt x="4088688" y="314225"/>
                  <a:pt x="4078828" y="330997"/>
                </a:cubicBezTo>
                <a:cubicBezTo>
                  <a:pt x="3940781" y="570242"/>
                  <a:pt x="3940781" y="570242"/>
                  <a:pt x="3940781" y="570242"/>
                </a:cubicBezTo>
                <a:cubicBezTo>
                  <a:pt x="3930921" y="587014"/>
                  <a:pt x="3907256" y="600826"/>
                  <a:pt x="3887535" y="600826"/>
                </a:cubicBezTo>
                <a:lnTo>
                  <a:pt x="3752336" y="600826"/>
                </a:lnTo>
                <a:lnTo>
                  <a:pt x="3611441" y="600826"/>
                </a:lnTo>
                <a:lnTo>
                  <a:pt x="474414" y="600826"/>
                </a:lnTo>
                <a:lnTo>
                  <a:pt x="349254" y="600826"/>
                </a:lnTo>
                <a:lnTo>
                  <a:pt x="198320" y="600826"/>
                </a:lnTo>
                <a:cubicBezTo>
                  <a:pt x="179092" y="600826"/>
                  <a:pt x="154933" y="587014"/>
                  <a:pt x="145073" y="570242"/>
                </a:cubicBezTo>
                <a:cubicBezTo>
                  <a:pt x="7026" y="330997"/>
                  <a:pt x="7026" y="330997"/>
                  <a:pt x="7026" y="330997"/>
                </a:cubicBezTo>
                <a:cubicBezTo>
                  <a:pt x="2343" y="322611"/>
                  <a:pt x="0" y="311512"/>
                  <a:pt x="0" y="300413"/>
                </a:cubicBezTo>
                <a:cubicBezTo>
                  <a:pt x="0" y="289315"/>
                  <a:pt x="2343" y="278215"/>
                  <a:pt x="7026" y="269829"/>
                </a:cubicBezTo>
                <a:cubicBezTo>
                  <a:pt x="145073" y="30584"/>
                  <a:pt x="145073" y="30584"/>
                  <a:pt x="145073" y="30584"/>
                </a:cubicBezTo>
                <a:cubicBezTo>
                  <a:pt x="154933" y="13812"/>
                  <a:pt x="179092" y="0"/>
                  <a:pt x="198320" y="0"/>
                </a:cubicBezTo>
                <a:close/>
              </a:path>
            </a:pathLst>
          </a:cu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PPROACH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任意多边形 8"/>
          <p:cNvSpPr/>
          <p:nvPr/>
        </p:nvSpPr>
        <p:spPr>
          <a:xfrm>
            <a:off x="3890880" y="2679840"/>
            <a:ext cx="4465440" cy="48528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4086223" h="600826">
                <a:moveTo>
                  <a:pt x="198320" y="0"/>
                </a:moveTo>
                <a:lnTo>
                  <a:pt x="349254" y="0"/>
                </a:lnTo>
                <a:lnTo>
                  <a:pt x="357937" y="0"/>
                </a:lnTo>
                <a:cubicBezTo>
                  <a:pt x="474414" y="0"/>
                  <a:pt x="474414" y="0"/>
                  <a:pt x="474414" y="0"/>
                </a:cubicBezTo>
                <a:lnTo>
                  <a:pt x="3611441" y="0"/>
                </a:lnTo>
                <a:lnTo>
                  <a:pt x="3752336" y="0"/>
                </a:lnTo>
                <a:lnTo>
                  <a:pt x="3771058" y="0"/>
                </a:lnTo>
                <a:cubicBezTo>
                  <a:pt x="3887535" y="0"/>
                  <a:pt x="3887535" y="0"/>
                  <a:pt x="3887535" y="0"/>
                </a:cubicBezTo>
                <a:cubicBezTo>
                  <a:pt x="3907256" y="0"/>
                  <a:pt x="3930921" y="13812"/>
                  <a:pt x="3940781" y="30584"/>
                </a:cubicBezTo>
                <a:cubicBezTo>
                  <a:pt x="4078828" y="269829"/>
                  <a:pt x="4078828" y="269829"/>
                  <a:pt x="4078828" y="269829"/>
                </a:cubicBezTo>
                <a:cubicBezTo>
                  <a:pt x="4088688" y="286601"/>
                  <a:pt x="4088688" y="314225"/>
                  <a:pt x="4078828" y="330997"/>
                </a:cubicBezTo>
                <a:cubicBezTo>
                  <a:pt x="3940781" y="570242"/>
                  <a:pt x="3940781" y="570242"/>
                  <a:pt x="3940781" y="570242"/>
                </a:cubicBezTo>
                <a:cubicBezTo>
                  <a:pt x="3930921" y="587014"/>
                  <a:pt x="3907256" y="600826"/>
                  <a:pt x="3887535" y="600826"/>
                </a:cubicBezTo>
                <a:lnTo>
                  <a:pt x="3752336" y="600826"/>
                </a:lnTo>
                <a:lnTo>
                  <a:pt x="3611441" y="600826"/>
                </a:lnTo>
                <a:lnTo>
                  <a:pt x="474414" y="600826"/>
                </a:lnTo>
                <a:lnTo>
                  <a:pt x="349254" y="600826"/>
                </a:lnTo>
                <a:lnTo>
                  <a:pt x="198320" y="600826"/>
                </a:lnTo>
                <a:cubicBezTo>
                  <a:pt x="179092" y="600826"/>
                  <a:pt x="154933" y="587014"/>
                  <a:pt x="145073" y="570242"/>
                </a:cubicBezTo>
                <a:cubicBezTo>
                  <a:pt x="7026" y="330997"/>
                  <a:pt x="7026" y="330997"/>
                  <a:pt x="7026" y="330997"/>
                </a:cubicBezTo>
                <a:cubicBezTo>
                  <a:pt x="2343" y="322611"/>
                  <a:pt x="0" y="311512"/>
                  <a:pt x="0" y="300413"/>
                </a:cubicBezTo>
                <a:cubicBezTo>
                  <a:pt x="0" y="289315"/>
                  <a:pt x="2343" y="278215"/>
                  <a:pt x="7026" y="269829"/>
                </a:cubicBezTo>
                <a:cubicBezTo>
                  <a:pt x="145073" y="30584"/>
                  <a:pt x="145073" y="30584"/>
                  <a:pt x="145073" y="30584"/>
                </a:cubicBezTo>
                <a:cubicBezTo>
                  <a:pt x="154933" y="13812"/>
                  <a:pt x="179092" y="0"/>
                  <a:pt x="198320" y="0"/>
                </a:cubicBezTo>
                <a:close/>
              </a:path>
            </a:pathLst>
          </a:cu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 </a:t>
            </a:r>
            <a:r>
              <a:rPr b="0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KEY FINDING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9"/>
          <p:cNvSpPr/>
          <p:nvPr/>
        </p:nvSpPr>
        <p:spPr>
          <a:xfrm>
            <a:off x="0" y="0"/>
            <a:ext cx="2873160" cy="5143320"/>
          </a:xfrm>
          <a:custGeom>
            <a:avLst/>
            <a:gdLst>
              <a:gd name="textAreaLeft" fmla="*/ 0 w 2873160"/>
              <a:gd name="textAreaRight" fmla="*/ 2873520 w 2873160"/>
              <a:gd name="textAreaTop" fmla="*/ 0 h 5143320"/>
              <a:gd name="textAreaBottom" fmla="*/ 5143680 h 5143320"/>
            </a:gdLst>
            <a:ahLst/>
            <a:rect l="textAreaLeft" t="textAreaTop" r="textAreaRight" b="textAreaBottom"/>
            <a:pathLst>
              <a:path w="9144000" h="123468">
                <a:moveTo>
                  <a:pt x="0" y="0"/>
                </a:moveTo>
                <a:lnTo>
                  <a:pt x="2286000" y="0"/>
                </a:lnTo>
                <a:lnTo>
                  <a:pt x="4572000" y="0"/>
                </a:lnTo>
                <a:lnTo>
                  <a:pt x="6858000" y="0"/>
                </a:lnTo>
                <a:lnTo>
                  <a:pt x="9144000" y="0"/>
                </a:lnTo>
                <a:lnTo>
                  <a:pt x="9144000" y="123468"/>
                </a:lnTo>
                <a:lnTo>
                  <a:pt x="6858000" y="123468"/>
                </a:lnTo>
                <a:lnTo>
                  <a:pt x="4572000" y="123468"/>
                </a:lnTo>
                <a:lnTo>
                  <a:pt x="2286000" y="123468"/>
                </a:lnTo>
                <a:lnTo>
                  <a:pt x="0" y="123468"/>
                </a:lnTo>
                <a:close/>
              </a:path>
            </a:pathLst>
          </a:custGeom>
          <a:solidFill>
            <a:schemeClr val="tx2"/>
          </a:solidFill>
          <a:ln w="76200">
            <a:solidFill>
              <a:srgbClr val="000000"/>
            </a:solidFill>
          </a:ln>
        </p:spPr>
        <p:style>
          <a:lnRef idx="2">
            <a:schemeClr val="dk1"/>
          </a:lnRef>
          <a:fillRef idx="1">
            <a:schemeClr val="lt1"/>
          </a:fillRef>
          <a:effectRef idx="0">
            <a:schemeClr val="dk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1" lang="en-US" sz="1800" spc="-1" strike="noStrike">
              <a:solidFill>
                <a:srgbClr val="e6b9b8"/>
              </a:solidFill>
              <a:latin typeface="等线"/>
              <a:ea typeface="等线"/>
            </a:endParaRPr>
          </a:p>
        </p:txBody>
      </p:sp>
      <p:sp>
        <p:nvSpPr>
          <p:cNvPr id="146" name="任意多边形 10"/>
          <p:cNvSpPr/>
          <p:nvPr/>
        </p:nvSpPr>
        <p:spPr>
          <a:xfrm>
            <a:off x="3890880" y="3598920"/>
            <a:ext cx="4465440" cy="485280"/>
          </a:xfrm>
          <a:custGeom>
            <a:avLst/>
            <a:gdLst>
              <a:gd name="textAreaLeft" fmla="*/ 0 w 4465440"/>
              <a:gd name="textAreaRight" fmla="*/ 4465800 w 4465440"/>
              <a:gd name="textAreaTop" fmla="*/ 0 h 485280"/>
              <a:gd name="textAreaBottom" fmla="*/ 485640 h 485280"/>
            </a:gdLst>
            <a:ahLst/>
            <a:rect l="textAreaLeft" t="textAreaTop" r="textAreaRight" b="textAreaBottom"/>
            <a:pathLst>
              <a:path w="4086223" h="600826">
                <a:moveTo>
                  <a:pt x="198320" y="0"/>
                </a:moveTo>
                <a:lnTo>
                  <a:pt x="349254" y="0"/>
                </a:lnTo>
                <a:lnTo>
                  <a:pt x="357937" y="0"/>
                </a:lnTo>
                <a:cubicBezTo>
                  <a:pt x="474414" y="0"/>
                  <a:pt x="474414" y="0"/>
                  <a:pt x="474414" y="0"/>
                </a:cubicBezTo>
                <a:lnTo>
                  <a:pt x="3611441" y="0"/>
                </a:lnTo>
                <a:lnTo>
                  <a:pt x="3752336" y="0"/>
                </a:lnTo>
                <a:lnTo>
                  <a:pt x="3771058" y="0"/>
                </a:lnTo>
                <a:cubicBezTo>
                  <a:pt x="3887535" y="0"/>
                  <a:pt x="3887535" y="0"/>
                  <a:pt x="3887535" y="0"/>
                </a:cubicBezTo>
                <a:cubicBezTo>
                  <a:pt x="3907256" y="0"/>
                  <a:pt x="3930921" y="13812"/>
                  <a:pt x="3940781" y="30584"/>
                </a:cubicBezTo>
                <a:cubicBezTo>
                  <a:pt x="4078828" y="269829"/>
                  <a:pt x="4078828" y="269829"/>
                  <a:pt x="4078828" y="269829"/>
                </a:cubicBezTo>
                <a:cubicBezTo>
                  <a:pt x="4088688" y="286601"/>
                  <a:pt x="4088688" y="314225"/>
                  <a:pt x="4078828" y="330997"/>
                </a:cubicBezTo>
                <a:cubicBezTo>
                  <a:pt x="3940781" y="570242"/>
                  <a:pt x="3940781" y="570242"/>
                  <a:pt x="3940781" y="570242"/>
                </a:cubicBezTo>
                <a:cubicBezTo>
                  <a:pt x="3930921" y="587014"/>
                  <a:pt x="3907256" y="600826"/>
                  <a:pt x="3887535" y="600826"/>
                </a:cubicBezTo>
                <a:lnTo>
                  <a:pt x="3752336" y="600826"/>
                </a:lnTo>
                <a:lnTo>
                  <a:pt x="3611441" y="600826"/>
                </a:lnTo>
                <a:lnTo>
                  <a:pt x="474414" y="600826"/>
                </a:lnTo>
                <a:lnTo>
                  <a:pt x="349254" y="600826"/>
                </a:lnTo>
                <a:lnTo>
                  <a:pt x="198320" y="600826"/>
                </a:lnTo>
                <a:cubicBezTo>
                  <a:pt x="179092" y="600826"/>
                  <a:pt x="154933" y="587014"/>
                  <a:pt x="145073" y="570242"/>
                </a:cubicBezTo>
                <a:cubicBezTo>
                  <a:pt x="7026" y="330997"/>
                  <a:pt x="7026" y="330997"/>
                  <a:pt x="7026" y="330997"/>
                </a:cubicBezTo>
                <a:cubicBezTo>
                  <a:pt x="2343" y="322611"/>
                  <a:pt x="0" y="311512"/>
                  <a:pt x="0" y="300413"/>
                </a:cubicBezTo>
                <a:cubicBezTo>
                  <a:pt x="0" y="289315"/>
                  <a:pt x="2343" y="278215"/>
                  <a:pt x="7026" y="269829"/>
                </a:cubicBezTo>
                <a:cubicBezTo>
                  <a:pt x="145073" y="30584"/>
                  <a:pt x="145073" y="30584"/>
                  <a:pt x="145073" y="30584"/>
                </a:cubicBezTo>
                <a:cubicBezTo>
                  <a:pt x="154933" y="13812"/>
                  <a:pt x="179092" y="0"/>
                  <a:pt x="198320" y="0"/>
                </a:cubicBezTo>
                <a:close/>
              </a:path>
            </a:pathLst>
          </a:cu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RECOMMENDATION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矩形 11"/>
          <p:cNvSpPr/>
          <p:nvPr/>
        </p:nvSpPr>
        <p:spPr>
          <a:xfrm>
            <a:off x="198360" y="1925640"/>
            <a:ext cx="2571480" cy="64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3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CONT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dt" idx="14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A391671-393F-43C5-A707-719FC17156C8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矩形 1"/>
          <p:cNvSpPr/>
          <p:nvPr/>
        </p:nvSpPr>
        <p:spPr>
          <a:xfrm>
            <a:off x="0" y="1682640"/>
            <a:ext cx="9143640" cy="21603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grpSp>
        <p:nvGrpSpPr>
          <p:cNvPr id="150" name="组合 2"/>
          <p:cNvGrpSpPr/>
          <p:nvPr/>
        </p:nvGrpSpPr>
        <p:grpSpPr>
          <a:xfrm>
            <a:off x="3956400" y="987480"/>
            <a:ext cx="1231560" cy="1390320"/>
            <a:chOff x="3956400" y="987480"/>
            <a:chExt cx="1231560" cy="1390320"/>
          </a:xfrm>
        </p:grpSpPr>
        <p:sp>
          <p:nvSpPr>
            <p:cNvPr id="151" name="Freeform 5"/>
            <p:cNvSpPr/>
            <p:nvPr/>
          </p:nvSpPr>
          <p:spPr>
            <a:xfrm rot="5400000">
              <a:off x="3876840" y="1066680"/>
              <a:ext cx="1390320" cy="12315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1375" h="1218">
                  <a:moveTo>
                    <a:pt x="407" y="1218"/>
                  </a:moveTo>
                  <a:cubicBezTo>
                    <a:pt x="368" y="1218"/>
                    <a:pt x="319" y="1190"/>
                    <a:pt x="299" y="1156"/>
                  </a:cubicBezTo>
                  <a:cubicBezTo>
                    <a:pt x="19" y="671"/>
                    <a:pt x="19" y="671"/>
                    <a:pt x="19" y="671"/>
                  </a:cubicBezTo>
                  <a:cubicBezTo>
                    <a:pt x="0" y="637"/>
                    <a:pt x="0" y="581"/>
                    <a:pt x="19" y="547"/>
                  </a:cubicBezTo>
                  <a:cubicBezTo>
                    <a:pt x="299" y="62"/>
                    <a:pt x="299" y="62"/>
                    <a:pt x="299" y="62"/>
                  </a:cubicBezTo>
                  <a:cubicBezTo>
                    <a:pt x="319" y="28"/>
                    <a:pt x="368" y="0"/>
                    <a:pt x="407" y="0"/>
                  </a:cubicBezTo>
                  <a:cubicBezTo>
                    <a:pt x="967" y="0"/>
                    <a:pt x="967" y="0"/>
                    <a:pt x="967" y="0"/>
                  </a:cubicBezTo>
                  <a:cubicBezTo>
                    <a:pt x="1007" y="0"/>
                    <a:pt x="1055" y="28"/>
                    <a:pt x="1075" y="62"/>
                  </a:cubicBezTo>
                  <a:cubicBezTo>
                    <a:pt x="1355" y="547"/>
                    <a:pt x="1355" y="547"/>
                    <a:pt x="1355" y="547"/>
                  </a:cubicBezTo>
                  <a:cubicBezTo>
                    <a:pt x="1375" y="581"/>
                    <a:pt x="1375" y="637"/>
                    <a:pt x="1355" y="671"/>
                  </a:cubicBezTo>
                  <a:cubicBezTo>
                    <a:pt x="1075" y="1156"/>
                    <a:pt x="1075" y="1156"/>
                    <a:pt x="1075" y="1156"/>
                  </a:cubicBezTo>
                  <a:cubicBezTo>
                    <a:pt x="1055" y="1190"/>
                    <a:pt x="1007" y="1218"/>
                    <a:pt x="967" y="1218"/>
                  </a:cubicBezTo>
                  <a:lnTo>
                    <a:pt x="407" y="1218"/>
                  </a:lnTo>
                  <a:close/>
                </a:path>
              </a:pathLst>
            </a:custGeom>
            <a:noFill/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36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52" name="任意多边形 4"/>
            <p:cNvSpPr/>
            <p:nvPr/>
          </p:nvSpPr>
          <p:spPr>
            <a:xfrm>
              <a:off x="4025880" y="1071720"/>
              <a:ext cx="1091880" cy="1221840"/>
            </a:xfrm>
            <a:custGeom>
              <a:avLst/>
              <a:gdLst>
                <a:gd name="textAreaLeft" fmla="*/ 0 w 1091880"/>
                <a:gd name="textAreaRight" fmla="*/ 1092240 w 1091880"/>
                <a:gd name="textAreaTop" fmla="*/ 0 h 1221840"/>
                <a:gd name="textAreaBottom" fmla="*/ 1222200 h 1221840"/>
              </a:gdLst>
              <a:ahLst/>
              <a:rect l="textAreaLeft" t="textAreaTop" r="textAreaRight" b="textAreaBottom"/>
              <a:pathLst>
                <a:path w="1454626" h="1629611">
                  <a:moveTo>
                    <a:pt x="727313" y="0"/>
                  </a:moveTo>
                  <a:cubicBezTo>
                    <a:pt x="754184" y="0"/>
                    <a:pt x="781056" y="5670"/>
                    <a:pt x="801358" y="17009"/>
                  </a:cubicBezTo>
                  <a:cubicBezTo>
                    <a:pt x="1380581" y="351227"/>
                    <a:pt x="1380581" y="351227"/>
                    <a:pt x="1380581" y="351227"/>
                  </a:cubicBezTo>
                  <a:cubicBezTo>
                    <a:pt x="1421187" y="375100"/>
                    <a:pt x="1454626" y="433588"/>
                    <a:pt x="1454626" y="480140"/>
                  </a:cubicBezTo>
                  <a:cubicBezTo>
                    <a:pt x="1454626" y="1148577"/>
                    <a:pt x="1454626" y="1148577"/>
                    <a:pt x="1454626" y="1148577"/>
                  </a:cubicBezTo>
                  <a:cubicBezTo>
                    <a:pt x="1454626" y="1196322"/>
                    <a:pt x="1421187" y="1253617"/>
                    <a:pt x="1380581" y="1277489"/>
                  </a:cubicBezTo>
                  <a:cubicBezTo>
                    <a:pt x="801358" y="1611707"/>
                    <a:pt x="801358" y="1611707"/>
                    <a:pt x="801358" y="1611707"/>
                  </a:cubicBezTo>
                  <a:cubicBezTo>
                    <a:pt x="760753" y="1635580"/>
                    <a:pt x="693874" y="1635580"/>
                    <a:pt x="653268" y="1611707"/>
                  </a:cubicBezTo>
                  <a:cubicBezTo>
                    <a:pt x="74045" y="1277489"/>
                    <a:pt x="74045" y="1277489"/>
                    <a:pt x="74045" y="1277489"/>
                  </a:cubicBezTo>
                  <a:cubicBezTo>
                    <a:pt x="33440" y="1253617"/>
                    <a:pt x="0" y="1196322"/>
                    <a:pt x="0" y="1148577"/>
                  </a:cubicBezTo>
                  <a:lnTo>
                    <a:pt x="0" y="480140"/>
                  </a:lnTo>
                  <a:cubicBezTo>
                    <a:pt x="0" y="433588"/>
                    <a:pt x="33440" y="375100"/>
                    <a:pt x="74045" y="351227"/>
                  </a:cubicBezTo>
                  <a:cubicBezTo>
                    <a:pt x="653268" y="17009"/>
                    <a:pt x="653268" y="17009"/>
                    <a:pt x="653268" y="17009"/>
                  </a:cubicBezTo>
                  <a:cubicBezTo>
                    <a:pt x="673571" y="5670"/>
                    <a:pt x="700442" y="0"/>
                    <a:pt x="727313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矩形 5"/>
          <p:cNvSpPr/>
          <p:nvPr/>
        </p:nvSpPr>
        <p:spPr>
          <a:xfrm>
            <a:off x="3269520" y="2471760"/>
            <a:ext cx="260424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1" lang="en-GB" sz="24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dt" idx="15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D7A44C2E-1E74-489B-84A8-6D22BA1BA310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75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75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矩形 1"/>
          <p:cNvSpPr/>
          <p:nvPr/>
        </p:nvSpPr>
        <p:spPr>
          <a:xfrm>
            <a:off x="0" y="-208080"/>
            <a:ext cx="9143640" cy="68400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    </a:t>
            </a:r>
            <a:r>
              <a:rPr b="1" lang="en-GB" sz="1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INTRODU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KSO_Shape"/>
          <p:cNvSpPr/>
          <p:nvPr/>
        </p:nvSpPr>
        <p:spPr>
          <a:xfrm>
            <a:off x="250920" y="-20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250920" y="708120"/>
            <a:ext cx="8784720" cy="430164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rm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The Institute of Social Work 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has been assigned through the </a:t>
            </a:r>
            <a:r>
              <a:rPr b="1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Mtoto Kwanza Project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 implemented by </a:t>
            </a:r>
            <a:r>
              <a:rPr b="1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Children in Crossfire </a:t>
            </a: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to carry out an assessment of </a:t>
            </a:r>
            <a:r>
              <a:rPr b="1" lang="en-GB" sz="2400" spc="-1" strike="noStrike">
                <a:solidFill>
                  <a:schemeClr val="accent1"/>
                </a:solidFill>
                <a:latin typeface="DengXian (Body)"/>
                <a:ea typeface="Microsoft YaHei"/>
              </a:rPr>
              <a:t>the implementation of the National Multi-sectoral Early Childhood Development Program (NMECDP)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marL="228600" indent="-228600" algn="just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DengXian (Body)"/>
                <a:ea typeface="Microsoft YaHei"/>
              </a:rPr>
              <a:t>To facilitate </a:t>
            </a:r>
            <a:r>
              <a:rPr b="1" lang="en-GB" sz="2400" spc="-1" strike="noStrike">
                <a:solidFill>
                  <a:schemeClr val="accent1">
                    <a:lumMod val="75000"/>
                  </a:schemeClr>
                </a:solidFill>
                <a:latin typeface="DengXian (Body)"/>
                <a:ea typeface="Microsoft YaHei"/>
              </a:rPr>
              <a:t>reflection and assessment</a:t>
            </a:r>
            <a:r>
              <a:rPr b="0" lang="en-GB" sz="2400" spc="-1" strike="noStrike">
                <a:solidFill>
                  <a:srgbClr val="ff0000"/>
                </a:solidFill>
                <a:latin typeface="DengXian (Body)"/>
                <a:ea typeface="Microsoft YaHei"/>
              </a:rPr>
              <a:t>, provides for a learning opportunity of what is working and what is not working.</a:t>
            </a:r>
            <a:endParaRPr b="0" lang="en-US" sz="24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2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1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dt" idx="16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4D43FFC-AD8C-42A7-BCE3-1243F8C2B843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0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75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2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75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矩形 1"/>
          <p:cNvSpPr/>
          <p:nvPr/>
        </p:nvSpPr>
        <p:spPr>
          <a:xfrm>
            <a:off x="0" y="1682640"/>
            <a:ext cx="9143640" cy="21603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grpSp>
        <p:nvGrpSpPr>
          <p:cNvPr id="160" name="组合 2"/>
          <p:cNvGrpSpPr/>
          <p:nvPr/>
        </p:nvGrpSpPr>
        <p:grpSpPr>
          <a:xfrm>
            <a:off x="3956400" y="987480"/>
            <a:ext cx="1231560" cy="1390320"/>
            <a:chOff x="3956400" y="987480"/>
            <a:chExt cx="1231560" cy="1390320"/>
          </a:xfrm>
        </p:grpSpPr>
        <p:sp>
          <p:nvSpPr>
            <p:cNvPr id="161" name="Freeform 5"/>
            <p:cNvSpPr/>
            <p:nvPr/>
          </p:nvSpPr>
          <p:spPr>
            <a:xfrm rot="5400000">
              <a:off x="3876840" y="1066680"/>
              <a:ext cx="1390320" cy="12315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1375" h="1218">
                  <a:moveTo>
                    <a:pt x="407" y="1218"/>
                  </a:moveTo>
                  <a:cubicBezTo>
                    <a:pt x="368" y="1218"/>
                    <a:pt x="319" y="1190"/>
                    <a:pt x="299" y="1156"/>
                  </a:cubicBezTo>
                  <a:cubicBezTo>
                    <a:pt x="19" y="671"/>
                    <a:pt x="19" y="671"/>
                    <a:pt x="19" y="671"/>
                  </a:cubicBezTo>
                  <a:cubicBezTo>
                    <a:pt x="0" y="637"/>
                    <a:pt x="0" y="581"/>
                    <a:pt x="19" y="547"/>
                  </a:cubicBezTo>
                  <a:cubicBezTo>
                    <a:pt x="299" y="62"/>
                    <a:pt x="299" y="62"/>
                    <a:pt x="299" y="62"/>
                  </a:cubicBezTo>
                  <a:cubicBezTo>
                    <a:pt x="319" y="28"/>
                    <a:pt x="368" y="0"/>
                    <a:pt x="407" y="0"/>
                  </a:cubicBezTo>
                  <a:cubicBezTo>
                    <a:pt x="967" y="0"/>
                    <a:pt x="967" y="0"/>
                    <a:pt x="967" y="0"/>
                  </a:cubicBezTo>
                  <a:cubicBezTo>
                    <a:pt x="1007" y="0"/>
                    <a:pt x="1055" y="28"/>
                    <a:pt x="1075" y="62"/>
                  </a:cubicBezTo>
                  <a:cubicBezTo>
                    <a:pt x="1355" y="547"/>
                    <a:pt x="1355" y="547"/>
                    <a:pt x="1355" y="547"/>
                  </a:cubicBezTo>
                  <a:cubicBezTo>
                    <a:pt x="1375" y="581"/>
                    <a:pt x="1375" y="637"/>
                    <a:pt x="1355" y="671"/>
                  </a:cubicBezTo>
                  <a:cubicBezTo>
                    <a:pt x="1075" y="1156"/>
                    <a:pt x="1075" y="1156"/>
                    <a:pt x="1075" y="1156"/>
                  </a:cubicBezTo>
                  <a:cubicBezTo>
                    <a:pt x="1055" y="1190"/>
                    <a:pt x="1007" y="1218"/>
                    <a:pt x="967" y="1218"/>
                  </a:cubicBezTo>
                  <a:lnTo>
                    <a:pt x="407" y="1218"/>
                  </a:lnTo>
                  <a:close/>
                </a:path>
              </a:pathLst>
            </a:custGeom>
            <a:noFill/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36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62" name="任意多边形 4"/>
            <p:cNvSpPr/>
            <p:nvPr/>
          </p:nvSpPr>
          <p:spPr>
            <a:xfrm>
              <a:off x="4025880" y="1071720"/>
              <a:ext cx="1091880" cy="1221840"/>
            </a:xfrm>
            <a:custGeom>
              <a:avLst/>
              <a:gdLst>
                <a:gd name="textAreaLeft" fmla="*/ 0 w 1091880"/>
                <a:gd name="textAreaRight" fmla="*/ 1092240 w 1091880"/>
                <a:gd name="textAreaTop" fmla="*/ 0 h 1221840"/>
                <a:gd name="textAreaBottom" fmla="*/ 1222200 h 1221840"/>
              </a:gdLst>
              <a:ahLst/>
              <a:rect l="textAreaLeft" t="textAreaTop" r="textAreaRight" b="textAreaBottom"/>
              <a:pathLst>
                <a:path w="1454626" h="1629611">
                  <a:moveTo>
                    <a:pt x="727313" y="0"/>
                  </a:moveTo>
                  <a:cubicBezTo>
                    <a:pt x="754184" y="0"/>
                    <a:pt x="781056" y="5670"/>
                    <a:pt x="801358" y="17009"/>
                  </a:cubicBezTo>
                  <a:cubicBezTo>
                    <a:pt x="1380581" y="351227"/>
                    <a:pt x="1380581" y="351227"/>
                    <a:pt x="1380581" y="351227"/>
                  </a:cubicBezTo>
                  <a:cubicBezTo>
                    <a:pt x="1421187" y="375100"/>
                    <a:pt x="1454626" y="433588"/>
                    <a:pt x="1454626" y="480140"/>
                  </a:cubicBezTo>
                  <a:cubicBezTo>
                    <a:pt x="1454626" y="1148577"/>
                    <a:pt x="1454626" y="1148577"/>
                    <a:pt x="1454626" y="1148577"/>
                  </a:cubicBezTo>
                  <a:cubicBezTo>
                    <a:pt x="1454626" y="1196322"/>
                    <a:pt x="1421187" y="1253617"/>
                    <a:pt x="1380581" y="1277489"/>
                  </a:cubicBezTo>
                  <a:cubicBezTo>
                    <a:pt x="801358" y="1611707"/>
                    <a:pt x="801358" y="1611707"/>
                    <a:pt x="801358" y="1611707"/>
                  </a:cubicBezTo>
                  <a:cubicBezTo>
                    <a:pt x="760753" y="1635580"/>
                    <a:pt x="693874" y="1635580"/>
                    <a:pt x="653268" y="1611707"/>
                  </a:cubicBezTo>
                  <a:cubicBezTo>
                    <a:pt x="74045" y="1277489"/>
                    <a:pt x="74045" y="1277489"/>
                    <a:pt x="74045" y="1277489"/>
                  </a:cubicBezTo>
                  <a:cubicBezTo>
                    <a:pt x="33440" y="1253617"/>
                    <a:pt x="0" y="1196322"/>
                    <a:pt x="0" y="1148577"/>
                  </a:cubicBezTo>
                  <a:lnTo>
                    <a:pt x="0" y="480140"/>
                  </a:lnTo>
                  <a:cubicBezTo>
                    <a:pt x="0" y="433588"/>
                    <a:pt x="33440" y="375100"/>
                    <a:pt x="74045" y="351227"/>
                  </a:cubicBezTo>
                  <a:cubicBezTo>
                    <a:pt x="653268" y="17009"/>
                    <a:pt x="653268" y="17009"/>
                    <a:pt x="653268" y="17009"/>
                  </a:cubicBezTo>
                  <a:cubicBezTo>
                    <a:pt x="673571" y="5670"/>
                    <a:pt x="700442" y="0"/>
                    <a:pt x="727313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2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矩形 5"/>
          <p:cNvSpPr/>
          <p:nvPr/>
        </p:nvSpPr>
        <p:spPr>
          <a:xfrm>
            <a:off x="3166560" y="2471760"/>
            <a:ext cx="281016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US" sz="36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PPROACH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dt" idx="17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FF830269-C0FB-4C16-9AC0-8B0472049F51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75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3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0" lang="en-US" sz="20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APPROA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201600" y="879480"/>
            <a:ext cx="8330760" cy="40683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DengXian (Body)"/>
              </a:rPr>
              <a:t>Focus is on 10 Regions- 1</a:t>
            </a:r>
            <a:r>
              <a:rPr b="0" lang="en-GB" sz="2000" spc="-1" strike="noStrike" baseline="30000">
                <a:solidFill>
                  <a:srgbClr val="ff0000"/>
                </a:solidFill>
                <a:latin typeface="DengXian (Body)"/>
              </a:rPr>
              <a:t>st</a:t>
            </a:r>
            <a:r>
              <a:rPr b="0" lang="en-GB" sz="2000" spc="-1" strike="noStrike">
                <a:solidFill>
                  <a:srgbClr val="ff0000"/>
                </a:solidFill>
                <a:latin typeface="DengXian (Body)"/>
              </a:rPr>
              <a:t> Phase of Mtoto kwanza project implementing regions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>
              <a:lnSpc>
                <a:spcPct val="90000"/>
              </a:lnSpc>
              <a:spcBef>
                <a:spcPts val="1417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DengXian (Body)"/>
              </a:rPr>
              <a:t>Participated in 5 regional review meetings </a:t>
            </a:r>
            <a:r>
              <a:rPr b="1" lang="en-GB" sz="2000" spc="-1" strike="noStrike">
                <a:solidFill>
                  <a:schemeClr val="accent1"/>
                </a:solidFill>
                <a:latin typeface="DengXian (Body)"/>
              </a:rPr>
              <a:t>(Dodoma, Dar es Salaam, Arusha, Tabora &amp; Kagera) + strategic interviews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2e75b6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chemeClr val="accent5">
                    <a:lumMod val="75000"/>
                  </a:schemeClr>
                </a:solidFill>
                <a:latin typeface="DengXian (Body)"/>
              </a:rPr>
              <a:t>Also participated in </a:t>
            </a:r>
            <a:r>
              <a:rPr b="1" lang="en-US" sz="2000" spc="-1" strike="noStrike">
                <a:solidFill>
                  <a:srgbClr val="000000"/>
                </a:solidFill>
                <a:latin typeface="DengXian (Body)"/>
              </a:rPr>
              <a:t>Technical working group session</a:t>
            </a:r>
            <a:r>
              <a:rPr b="1" lang="en-US" sz="2000" spc="-1" strike="noStrike">
                <a:solidFill>
                  <a:schemeClr val="accent5">
                    <a:lumMod val="75000"/>
                  </a:schemeClr>
                </a:solidFill>
                <a:latin typeface="DengXian (Body)"/>
              </a:rPr>
              <a:t>, </a:t>
            </a:r>
            <a:r>
              <a:rPr b="1" lang="en-US" sz="2000" spc="-1" strike="noStrike">
                <a:solidFill>
                  <a:srgbClr val="00b0f0"/>
                </a:solidFill>
                <a:latin typeface="DengXian (Body)"/>
              </a:rPr>
              <a:t>the national stakeholder meeting</a:t>
            </a:r>
            <a:r>
              <a:rPr b="0" lang="en-US" sz="2000" spc="-1" strike="noStrike">
                <a:solidFill>
                  <a:srgbClr val="000000"/>
                </a:solidFill>
                <a:latin typeface="DengXian (Body)"/>
              </a:rPr>
              <a:t> and </a:t>
            </a:r>
            <a:r>
              <a:rPr b="1" lang="en-US" sz="2000" spc="-1" strike="noStrike">
                <a:solidFill>
                  <a:srgbClr val="00b050"/>
                </a:solidFill>
                <a:latin typeface="DengXian (Body)"/>
              </a:rPr>
              <a:t>the media training session-</a:t>
            </a:r>
            <a:r>
              <a:rPr b="1" lang="en-US" sz="2000" spc="-1" strike="noStrike">
                <a:solidFill>
                  <a:srgbClr val="000000"/>
                </a:solidFill>
                <a:latin typeface="DengXian (Body)"/>
              </a:rPr>
              <a:t> Both held in Dodoma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marL="45720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engXian (Body)"/>
              </a:rPr>
              <a:t>Desk Review of NMECDP and Mtoto Kwanza Reports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18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5B4BC967-A742-4EE5-86DC-8C8CD2B4FCA7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75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75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矩形 1"/>
          <p:cNvSpPr/>
          <p:nvPr/>
        </p:nvSpPr>
        <p:spPr>
          <a:xfrm>
            <a:off x="0" y="1682640"/>
            <a:ext cx="9143640" cy="216036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grpSp>
        <p:nvGrpSpPr>
          <p:cNvPr id="170" name="组合 2"/>
          <p:cNvGrpSpPr/>
          <p:nvPr/>
        </p:nvGrpSpPr>
        <p:grpSpPr>
          <a:xfrm>
            <a:off x="3956400" y="987480"/>
            <a:ext cx="1231560" cy="1390320"/>
            <a:chOff x="3956400" y="987480"/>
            <a:chExt cx="1231560" cy="1390320"/>
          </a:xfrm>
        </p:grpSpPr>
        <p:sp>
          <p:nvSpPr>
            <p:cNvPr id="171" name="Freeform 5"/>
            <p:cNvSpPr/>
            <p:nvPr/>
          </p:nvSpPr>
          <p:spPr>
            <a:xfrm rot="5400000">
              <a:off x="3876840" y="1066680"/>
              <a:ext cx="1390320" cy="1231560"/>
            </a:xfrm>
            <a:custGeom>
              <a:avLst/>
              <a:gdLst>
                <a:gd name="textAreaLeft" fmla="*/ 0 w 1390320"/>
                <a:gd name="textAreaRight" fmla="*/ 1390680 w 1390320"/>
                <a:gd name="textAreaTop" fmla="*/ 0 h 1231560"/>
                <a:gd name="textAreaBottom" fmla="*/ 1231920 h 1231560"/>
              </a:gdLst>
              <a:ahLst/>
              <a:rect l="textAreaLeft" t="textAreaTop" r="textAreaRight" b="textAreaBottom"/>
              <a:pathLst>
                <a:path w="1375" h="1218">
                  <a:moveTo>
                    <a:pt x="407" y="1218"/>
                  </a:moveTo>
                  <a:cubicBezTo>
                    <a:pt x="368" y="1218"/>
                    <a:pt x="319" y="1190"/>
                    <a:pt x="299" y="1156"/>
                  </a:cubicBezTo>
                  <a:cubicBezTo>
                    <a:pt x="19" y="671"/>
                    <a:pt x="19" y="671"/>
                    <a:pt x="19" y="671"/>
                  </a:cubicBezTo>
                  <a:cubicBezTo>
                    <a:pt x="0" y="637"/>
                    <a:pt x="0" y="581"/>
                    <a:pt x="19" y="547"/>
                  </a:cubicBezTo>
                  <a:cubicBezTo>
                    <a:pt x="299" y="62"/>
                    <a:pt x="299" y="62"/>
                    <a:pt x="299" y="62"/>
                  </a:cubicBezTo>
                  <a:cubicBezTo>
                    <a:pt x="319" y="28"/>
                    <a:pt x="368" y="0"/>
                    <a:pt x="407" y="0"/>
                  </a:cubicBezTo>
                  <a:cubicBezTo>
                    <a:pt x="967" y="0"/>
                    <a:pt x="967" y="0"/>
                    <a:pt x="967" y="0"/>
                  </a:cubicBezTo>
                  <a:cubicBezTo>
                    <a:pt x="1007" y="0"/>
                    <a:pt x="1055" y="28"/>
                    <a:pt x="1075" y="62"/>
                  </a:cubicBezTo>
                  <a:cubicBezTo>
                    <a:pt x="1355" y="547"/>
                    <a:pt x="1355" y="547"/>
                    <a:pt x="1355" y="547"/>
                  </a:cubicBezTo>
                  <a:cubicBezTo>
                    <a:pt x="1375" y="581"/>
                    <a:pt x="1375" y="637"/>
                    <a:pt x="1355" y="671"/>
                  </a:cubicBezTo>
                  <a:cubicBezTo>
                    <a:pt x="1075" y="1156"/>
                    <a:pt x="1075" y="1156"/>
                    <a:pt x="1075" y="1156"/>
                  </a:cubicBezTo>
                  <a:cubicBezTo>
                    <a:pt x="1055" y="1190"/>
                    <a:pt x="1007" y="1218"/>
                    <a:pt x="967" y="1218"/>
                  </a:cubicBezTo>
                  <a:lnTo>
                    <a:pt x="407" y="1218"/>
                  </a:lnTo>
                  <a:close/>
                </a:path>
              </a:pathLst>
            </a:custGeom>
            <a:noFill/>
            <a:ln w="19050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68760" rIns="68760" tIns="34200" bIns="34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3600" spc="-1" strike="noStrike">
                <a:solidFill>
                  <a:srgbClr val="ffffff"/>
                </a:solidFill>
                <a:latin typeface="Calibri"/>
                <a:ea typeface="宋体"/>
              </a:endParaRPr>
            </a:p>
          </p:txBody>
        </p:sp>
        <p:sp>
          <p:nvSpPr>
            <p:cNvPr id="172" name="任意多边形 4"/>
            <p:cNvSpPr/>
            <p:nvPr/>
          </p:nvSpPr>
          <p:spPr>
            <a:xfrm>
              <a:off x="4025880" y="1071720"/>
              <a:ext cx="1091880" cy="1221840"/>
            </a:xfrm>
            <a:custGeom>
              <a:avLst/>
              <a:gdLst>
                <a:gd name="textAreaLeft" fmla="*/ 0 w 1091880"/>
                <a:gd name="textAreaRight" fmla="*/ 1092240 w 1091880"/>
                <a:gd name="textAreaTop" fmla="*/ 0 h 1221840"/>
                <a:gd name="textAreaBottom" fmla="*/ 1222200 h 1221840"/>
              </a:gdLst>
              <a:ahLst/>
              <a:rect l="textAreaLeft" t="textAreaTop" r="textAreaRight" b="textAreaBottom"/>
              <a:pathLst>
                <a:path w="1454626" h="1629611">
                  <a:moveTo>
                    <a:pt x="727313" y="0"/>
                  </a:moveTo>
                  <a:cubicBezTo>
                    <a:pt x="754184" y="0"/>
                    <a:pt x="781056" y="5670"/>
                    <a:pt x="801358" y="17009"/>
                  </a:cubicBezTo>
                  <a:cubicBezTo>
                    <a:pt x="1380581" y="351227"/>
                    <a:pt x="1380581" y="351227"/>
                    <a:pt x="1380581" y="351227"/>
                  </a:cubicBezTo>
                  <a:cubicBezTo>
                    <a:pt x="1421187" y="375100"/>
                    <a:pt x="1454626" y="433588"/>
                    <a:pt x="1454626" y="480140"/>
                  </a:cubicBezTo>
                  <a:cubicBezTo>
                    <a:pt x="1454626" y="1148577"/>
                    <a:pt x="1454626" y="1148577"/>
                    <a:pt x="1454626" y="1148577"/>
                  </a:cubicBezTo>
                  <a:cubicBezTo>
                    <a:pt x="1454626" y="1196322"/>
                    <a:pt x="1421187" y="1253617"/>
                    <a:pt x="1380581" y="1277489"/>
                  </a:cubicBezTo>
                  <a:cubicBezTo>
                    <a:pt x="801358" y="1611707"/>
                    <a:pt x="801358" y="1611707"/>
                    <a:pt x="801358" y="1611707"/>
                  </a:cubicBezTo>
                  <a:cubicBezTo>
                    <a:pt x="760753" y="1635580"/>
                    <a:pt x="693874" y="1635580"/>
                    <a:pt x="653268" y="1611707"/>
                  </a:cubicBezTo>
                  <a:cubicBezTo>
                    <a:pt x="74045" y="1277489"/>
                    <a:pt x="74045" y="1277489"/>
                    <a:pt x="74045" y="1277489"/>
                  </a:cubicBezTo>
                  <a:cubicBezTo>
                    <a:pt x="33440" y="1253617"/>
                    <a:pt x="0" y="1196322"/>
                    <a:pt x="0" y="1148577"/>
                  </a:cubicBezTo>
                  <a:lnTo>
                    <a:pt x="0" y="480140"/>
                  </a:lnTo>
                  <a:cubicBezTo>
                    <a:pt x="0" y="433588"/>
                    <a:pt x="33440" y="375100"/>
                    <a:pt x="74045" y="351227"/>
                  </a:cubicBezTo>
                  <a:cubicBezTo>
                    <a:pt x="653268" y="17009"/>
                    <a:pt x="653268" y="17009"/>
                    <a:pt x="653268" y="17009"/>
                  </a:cubicBezTo>
                  <a:cubicBezTo>
                    <a:pt x="673571" y="5670"/>
                    <a:pt x="700442" y="0"/>
                    <a:pt x="727313" y="0"/>
                  </a:cubicBezTo>
                  <a:close/>
                </a:path>
              </a:pathLst>
            </a:custGeom>
            <a:solidFill>
              <a:schemeClr val="tx1">
                <a:lumMod val="65000"/>
                <a:lumOff val="35000"/>
              </a:schemeClr>
            </a:solidFill>
            <a:ln>
              <a:noFill/>
            </a:ln>
          </p:spPr>
          <p:style>
            <a:lnRef idx="2">
              <a:schemeClr val="accent1">
                <a:shade val="50000"/>
              </a:schemeClr>
            </a:lnRef>
            <a:fillRef idx="1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8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Par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</a:pPr>
              <a:r>
                <a:rPr b="0" lang="en-US" sz="3600" spc="-1" strike="noStrike">
                  <a:solidFill>
                    <a:srgbClr val="ffffff"/>
                  </a:solidFill>
                  <a:latin typeface="等线"/>
                  <a:ea typeface="等线"/>
                </a:rPr>
                <a:t>3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矩形 5"/>
          <p:cNvSpPr/>
          <p:nvPr/>
        </p:nvSpPr>
        <p:spPr>
          <a:xfrm>
            <a:off x="3286440" y="2471760"/>
            <a:ext cx="257076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2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KEY FINDIN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dt" idx="19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1A5E867B-BFDE-4CB3-BD37-FAB81D74080A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0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75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750"/>
                            </p:stCondLst>
                            <p:childTnLst>
                              <p:par>
                                <p:cTn id="6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75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矩形 1"/>
          <p:cNvSpPr/>
          <p:nvPr/>
        </p:nvSpPr>
        <p:spPr>
          <a:xfrm>
            <a:off x="0" y="0"/>
            <a:ext cx="9143640" cy="77112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176" name="KSO_Shape"/>
          <p:cNvSpPr/>
          <p:nvPr/>
        </p:nvSpPr>
        <p:spPr>
          <a:xfrm>
            <a:off x="250920" y="18252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77" name="TextBox 4"/>
          <p:cNvSpPr/>
          <p:nvPr/>
        </p:nvSpPr>
        <p:spPr>
          <a:xfrm>
            <a:off x="1379520" y="20628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51000" y="771480"/>
            <a:ext cx="8037000" cy="426996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800" spc="-1" strike="noStrike">
                <a:solidFill>
                  <a:schemeClr val="accent1">
                    <a:lumMod val="50000"/>
                  </a:schemeClr>
                </a:solidFill>
                <a:latin typeface="DengXian (Body)"/>
                <a:ea typeface="等线"/>
              </a:rPr>
              <a:t>1. Engagement of ECD Stakeholders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As a resource mobilization strategy </a:t>
            </a: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– shortage of funding for implementation of activities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Focus on engaging the private sector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Enable synergy between the different ECD actors in their respective councils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lvl="1" marL="285840" indent="-285840" algn="just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Font typeface="Arial"/>
              <a:buChar char="•"/>
              <a:tabLst>
                <a:tab algn="l" pos="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DengXian (Body)"/>
                <a:ea typeface="等线"/>
              </a:rPr>
              <a:t>Invitation to the Regional review meetings should go beyond and have a meaningful engagement 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1"/>
                </a:solidFill>
                <a:latin typeface="DengXian (Body)"/>
                <a:ea typeface="等线"/>
              </a:rPr>
              <a:t>Mapping and profiling of key ECD actors in the respective councils –identify possible areas of engagement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	</a:t>
            </a: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1. Implementing Agencies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	</a:t>
            </a: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2. Affected Parties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	</a:t>
            </a: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3. Interested Parties-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	</a:t>
            </a: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4. Vulnerable groups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20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3BC7640-C9E3-4999-9683-8D51DB977A90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矩形 1"/>
          <p:cNvSpPr/>
          <p:nvPr/>
        </p:nvSpPr>
        <p:spPr>
          <a:xfrm>
            <a:off x="0" y="0"/>
            <a:ext cx="9143640" cy="552240"/>
          </a:xfrm>
          <a:prstGeom prst="rect">
            <a:avLst/>
          </a:prstGeom>
          <a:solidFill>
            <a:schemeClr val="tx2"/>
          </a:solidFill>
          <a:ln>
            <a:noFill/>
          </a:ln>
        </p:spPr>
        <p:style>
          <a:lnRef idx="2">
            <a:schemeClr val="accent1">
              <a:shade val="50000"/>
            </a:schemeClr>
          </a:lnRef>
          <a:fillRef idx="1">
            <a:schemeClr val="accent1"/>
          </a:fillRef>
          <a:effectRef idx="0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ffffff"/>
              </a:solidFill>
              <a:latin typeface="等线"/>
              <a:ea typeface="等线"/>
            </a:endParaRPr>
          </a:p>
        </p:txBody>
      </p:sp>
      <p:sp>
        <p:nvSpPr>
          <p:cNvPr id="182" name="KSO_Shape"/>
          <p:cNvSpPr/>
          <p:nvPr/>
        </p:nvSpPr>
        <p:spPr>
          <a:xfrm>
            <a:off x="250920" y="50760"/>
            <a:ext cx="612360" cy="372600"/>
          </a:xfrm>
          <a:custGeom>
            <a:avLst/>
            <a:gdLst>
              <a:gd name="textAreaLeft" fmla="*/ 0 w 612360"/>
              <a:gd name="textAreaRight" fmla="*/ 612720 w 612360"/>
              <a:gd name="textAreaTop" fmla="*/ 0 h 372600"/>
              <a:gd name="textAreaBottom" fmla="*/ 372960 h 372600"/>
            </a:gdLst>
            <a:ahLst/>
            <a:rect l="textAreaLeft" t="textAreaTop" r="textAreaRight" b="textAreaBottom"/>
            <a:pathLst>
              <a:path w="3931" h="2392">
                <a:moveTo>
                  <a:pt x="3046" y="1287"/>
                </a:moveTo>
                <a:cubicBezTo>
                  <a:pt x="3046" y="1287"/>
                  <a:pt x="2618" y="850"/>
                  <a:pt x="2027" y="850"/>
                </a:cubicBezTo>
                <a:cubicBezTo>
                  <a:pt x="1450" y="850"/>
                  <a:pt x="880" y="1287"/>
                  <a:pt x="880" y="1287"/>
                </a:cubicBezTo>
                <a:cubicBezTo>
                  <a:pt x="560" y="1154"/>
                  <a:pt x="560" y="1154"/>
                  <a:pt x="560" y="1154"/>
                </a:cubicBezTo>
                <a:cubicBezTo>
                  <a:pt x="560" y="1546"/>
                  <a:pt x="560" y="1546"/>
                  <a:pt x="560" y="1546"/>
                </a:cubicBezTo>
                <a:cubicBezTo>
                  <a:pt x="610" y="1563"/>
                  <a:pt x="647" y="1610"/>
                  <a:pt x="647" y="1666"/>
                </a:cubicBezTo>
                <a:cubicBezTo>
                  <a:pt x="647" y="1723"/>
                  <a:pt x="609" y="1769"/>
                  <a:pt x="558" y="1786"/>
                </a:cubicBezTo>
                <a:cubicBezTo>
                  <a:pt x="653" y="2208"/>
                  <a:pt x="653" y="2208"/>
                  <a:pt x="653" y="2208"/>
                </a:cubicBezTo>
                <a:cubicBezTo>
                  <a:pt x="373" y="2208"/>
                  <a:pt x="373" y="2208"/>
                  <a:pt x="373" y="2208"/>
                </a:cubicBezTo>
                <a:cubicBezTo>
                  <a:pt x="469" y="1784"/>
                  <a:pt x="469" y="1784"/>
                  <a:pt x="469" y="1784"/>
                </a:cubicBezTo>
                <a:cubicBezTo>
                  <a:pt x="423" y="1764"/>
                  <a:pt x="391" y="1719"/>
                  <a:pt x="391" y="1666"/>
                </a:cubicBezTo>
                <a:cubicBezTo>
                  <a:pt x="391" y="1614"/>
                  <a:pt x="422" y="1570"/>
                  <a:pt x="466" y="1549"/>
                </a:cubicBezTo>
                <a:cubicBezTo>
                  <a:pt x="466" y="1115"/>
                  <a:pt x="466" y="1115"/>
                  <a:pt x="466" y="1115"/>
                </a:cubicBezTo>
                <a:cubicBezTo>
                  <a:pt x="0" y="920"/>
                  <a:pt x="0" y="920"/>
                  <a:pt x="0" y="920"/>
                </a:cubicBezTo>
                <a:cubicBezTo>
                  <a:pt x="2050" y="0"/>
                  <a:pt x="2050" y="0"/>
                  <a:pt x="2050" y="0"/>
                </a:cubicBezTo>
                <a:cubicBezTo>
                  <a:pt x="3931" y="932"/>
                  <a:pt x="3931" y="932"/>
                  <a:pt x="3931" y="932"/>
                </a:cubicBezTo>
                <a:lnTo>
                  <a:pt x="3046" y="1287"/>
                </a:lnTo>
                <a:close/>
                <a:moveTo>
                  <a:pt x="2004" y="1072"/>
                </a:moveTo>
                <a:cubicBezTo>
                  <a:pt x="2598" y="1072"/>
                  <a:pt x="2929" y="1386"/>
                  <a:pt x="2929" y="1386"/>
                </a:cubicBezTo>
                <a:cubicBezTo>
                  <a:pt x="2929" y="2147"/>
                  <a:pt x="2929" y="2147"/>
                  <a:pt x="2929" y="2147"/>
                </a:cubicBezTo>
                <a:cubicBezTo>
                  <a:pt x="2929" y="2147"/>
                  <a:pt x="2586" y="2392"/>
                  <a:pt x="1957" y="2392"/>
                </a:cubicBezTo>
                <a:cubicBezTo>
                  <a:pt x="1328" y="2392"/>
                  <a:pt x="1099" y="2147"/>
                  <a:pt x="1099" y="2147"/>
                </a:cubicBezTo>
                <a:cubicBezTo>
                  <a:pt x="1099" y="1386"/>
                  <a:pt x="1099" y="1386"/>
                  <a:pt x="1099" y="1386"/>
                </a:cubicBezTo>
                <a:cubicBezTo>
                  <a:pt x="1099" y="1386"/>
                  <a:pt x="1410" y="1072"/>
                  <a:pt x="2004" y="1072"/>
                </a:cubicBezTo>
                <a:close/>
                <a:moveTo>
                  <a:pt x="1992" y="2252"/>
                </a:moveTo>
                <a:cubicBezTo>
                  <a:pt x="2404" y="2252"/>
                  <a:pt x="2738" y="2168"/>
                  <a:pt x="2738" y="2066"/>
                </a:cubicBezTo>
                <a:cubicBezTo>
                  <a:pt x="2738" y="1963"/>
                  <a:pt x="2404" y="1879"/>
                  <a:pt x="1992" y="1879"/>
                </a:cubicBezTo>
                <a:cubicBezTo>
                  <a:pt x="1581" y="1879"/>
                  <a:pt x="1247" y="1963"/>
                  <a:pt x="1247" y="2066"/>
                </a:cubicBezTo>
                <a:cubicBezTo>
                  <a:pt x="1247" y="2168"/>
                  <a:pt x="1581" y="2252"/>
                  <a:pt x="1992" y="2252"/>
                </a:cubicBezTo>
                <a:close/>
              </a:path>
            </a:pathLst>
          </a:cu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 anchorCtr="1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等线"/>
            </a:endParaRPr>
          </a:p>
        </p:txBody>
      </p:sp>
      <p:sp>
        <p:nvSpPr>
          <p:cNvPr id="183" name="TextBox 4"/>
          <p:cNvSpPr/>
          <p:nvPr/>
        </p:nvSpPr>
        <p:spPr>
          <a:xfrm>
            <a:off x="1379520" y="182520"/>
            <a:ext cx="61448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</a:pPr>
            <a:r>
              <a:rPr b="0" lang="en-GB" sz="1800" spc="-1" strike="noStrike">
                <a:solidFill>
                  <a:srgbClr val="ffffff"/>
                </a:solidFill>
                <a:latin typeface="Microsoft YaHei"/>
                <a:ea typeface="Microsoft YaHei"/>
              </a:rPr>
              <a:t>FIND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73080" y="851040"/>
            <a:ext cx="9143640" cy="7999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90000"/>
              </a:lnSpc>
              <a:buNone/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336600" y="627120"/>
            <a:ext cx="8470440" cy="441432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t">
            <a:no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1"/>
                </a:solidFill>
                <a:latin typeface="DengXian (Body)"/>
                <a:ea typeface="等线"/>
              </a:rPr>
              <a:t>Mapping and profiling of key ECD actors in the respective councils –identify possible areas of engagement 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1"/>
                </a:solidFill>
                <a:latin typeface="DengXian (Body)"/>
                <a:ea typeface="等线"/>
              </a:rPr>
              <a:t>2. Affected Partie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Affected Parties include parties that may be subject to direct impacts from the Program. Specifically, the following individuals and groups fall within this category: </a:t>
            </a:r>
            <a:r>
              <a:rPr b="1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Implementing Agencies, </a:t>
            </a: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Technical Partners (line ministries), </a:t>
            </a:r>
            <a:r>
              <a:rPr b="1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NGOs,</a:t>
            </a: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 community groups, and beneficiaries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800" spc="-1" strike="noStrike">
                <a:solidFill>
                  <a:schemeClr val="accent1"/>
                </a:solidFill>
                <a:latin typeface="DengXian (Body)"/>
                <a:ea typeface="等线"/>
              </a:rPr>
              <a:t>3. Interested Parties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Interested Parties include </a:t>
            </a:r>
            <a:r>
              <a:rPr b="1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stakeholders who may not experience direct impacts </a:t>
            </a: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from the Program but </a:t>
            </a:r>
            <a:r>
              <a:rPr b="1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who consider or perceive their interests as being affected by the Program and/or who could influence the Program</a:t>
            </a:r>
            <a:r>
              <a:rPr b="0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 and the process of its implementation in some way</a:t>
            </a:r>
            <a:r>
              <a:rPr b="1" lang="en-US" sz="1800" spc="-1" strike="noStrike">
                <a:solidFill>
                  <a:srgbClr val="000000"/>
                </a:solidFill>
                <a:latin typeface="DengXian (Body)"/>
                <a:ea typeface="等线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DengXian (Body)"/>
                <a:ea typeface="等线"/>
              </a:rPr>
              <a:t>(Private Sector).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1600" spc="-1" strike="noStrike">
                <a:solidFill>
                  <a:schemeClr val="accent1"/>
                </a:solidFill>
                <a:latin typeface="DengXian (Body)"/>
                <a:ea typeface="等线"/>
              </a:rPr>
              <a:t>4. Vulnerable groups</a:t>
            </a: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DengXian (Body)"/>
                <a:ea typeface="等线"/>
              </a:rPr>
              <a:t>Need-based approach</a:t>
            </a:r>
            <a:endParaRPr b="0" lang="en-US" sz="20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等线"/>
              </a:rPr>
              <a:t>	</a:t>
            </a:r>
            <a:r>
              <a:rPr b="1" lang="en-US" sz="1800" spc="-1" strike="noStrike">
                <a:solidFill>
                  <a:srgbClr val="ff0000"/>
                </a:solidFill>
                <a:latin typeface="Times New Roman"/>
                <a:ea typeface="等线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21"/>
          </p:nvPr>
        </p:nvSpPr>
        <p:spPr>
          <a:xfrm>
            <a:off x="628560" y="4767120"/>
            <a:ext cx="2057040" cy="274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1200" spc="-1" strike="noStrike">
                <a:solidFill>
                  <a:srgbClr val="8b8b8b"/>
                </a:solidFill>
                <a:latin typeface="等线"/>
              </a:defRPr>
            </a:lvl1pPr>
          </a:lstStyle>
          <a:p>
            <a:pPr indent="0">
              <a:lnSpc>
                <a:spcPct val="100000"/>
              </a:lnSpc>
              <a:buNone/>
            </a:pPr>
            <a:fld id="{464FC9E0-4574-4BFB-BE06-924037CEE2E7}" type="datetime1">
              <a:rPr b="0" lang="en-US" sz="1200" spc="-1" strike="noStrike">
                <a:solidFill>
                  <a:srgbClr val="8b8b8b"/>
                </a:solidFill>
                <a:latin typeface="等线"/>
              </a:rPr>
              <a:t>07/28/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TextBox 6"/>
          <p:cNvSpPr/>
          <p:nvPr/>
        </p:nvSpPr>
        <p:spPr>
          <a:xfrm>
            <a:off x="4500720" y="3795840"/>
            <a:ext cx="4319280" cy="13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NB: (1) Strategies for Engaging ECD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Stakeholders Based on Their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	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Influence, Interest, and Impa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(2) Data &amp; implementation stat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</a:pP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             </a:t>
            </a:r>
            <a:r>
              <a:rPr b="1" lang="en-US" sz="1600" spc="-1" strike="noStrike">
                <a:solidFill>
                  <a:srgbClr val="ff0000"/>
                </a:solidFill>
                <a:latin typeface="Times New Roman"/>
                <a:ea typeface="等线"/>
              </a:rPr>
              <a:t>(3) Resource mobilization opportun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homeppt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homeppt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homeppt">
  <a:themeElements>
    <a:clrScheme name="Office">
      <a:dk1>
        <a:srgbClr val="000000"/>
      </a:dk1>
      <a:lt1>
        <a:srgbClr val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4546a"/>
      </a:dk2>
      <a:lt2>
        <a:srgbClr val="e7e6e6"/>
      </a:lt2>
      <a:accent1>
        <a:srgbClr val="4472c4"/>
      </a:accent1>
      <a:accent2>
        <a:srgbClr val="ed7d31"/>
      </a:accent2>
      <a:accent3>
        <a:srgbClr val="a5a5a5"/>
      </a:accent3>
      <a:accent4>
        <a:srgbClr val="ffc000"/>
      </a:accent4>
      <a:accent5>
        <a:srgbClr val="5b9bd5"/>
      </a:accent5>
      <a:accent6>
        <a:srgbClr val="70ad47"/>
      </a:accent6>
      <a:hlink>
        <a:srgbClr val="0563c1"/>
      </a:hlink>
      <a:folHlink>
        <a:srgbClr val="954f72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PRESENTATION- EVALUATION OF MTOTO KWANZA PROJECT12092022 (3)</Template>
  <TotalTime>4414</TotalTime>
  <Application>LibreOffice/7.4.7.2$Linux_X86_64 LibreOffice_project/40$Build-2</Application>
  <AppVersion>15.0000</AppVersion>
  <Words>720</Words>
  <Paragraphs>141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9-14T09:52:24Z</dcterms:created>
  <dc:creator>user</dc:creator>
  <dc:description/>
  <cp:keywords>www.51pptmoban.com</cp:keywords>
  <dc:language>en-US</dc:language>
  <cp:lastModifiedBy>Microsoft account</cp:lastModifiedBy>
  <dcterms:modified xsi:type="dcterms:W3CDTF">2023-06-02T06:39:24Z</dcterms:modified>
  <cp:revision>1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224</vt:lpwstr>
  </property>
  <property fmtid="{D5CDD505-2E9C-101B-9397-08002B2CF9AE}" pid="3" name="Notes">
    <vt:r8>6</vt:r8>
  </property>
  <property fmtid="{D5CDD505-2E9C-101B-9397-08002B2CF9AE}" pid="4" name="PresentationFormat">
    <vt:lpwstr>On-screen Show (16:9)</vt:lpwstr>
  </property>
  <property fmtid="{D5CDD505-2E9C-101B-9397-08002B2CF9AE}" pid="5" name="Slides">
    <vt:r8>14</vt:r8>
  </property>
</Properties>
</file>